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  <p:sldId id="325" r:id="rId86"/>
    <p:sldId id="326" r:id="rId87"/>
    <p:sldId id="327" r:id="rId88"/>
    <p:sldId id="328" r:id="rId89"/>
    <p:sldId id="329" r:id="rId90"/>
    <p:sldId id="330" r:id="rId91"/>
    <p:sldId id="331" r:id="rId92"/>
    <p:sldId id="332" r:id="rId93"/>
    <p:sldId id="333" r:id="rId94"/>
    <p:sldId id="334" r:id="rId95"/>
    <p:sldId id="335" r:id="rId96"/>
    <p:sldId id="336" r:id="rId97"/>
    <p:sldId id="337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slide" Target="slides/slide70.xml"/><Relationship Id="rId87" Type="http://schemas.openxmlformats.org/officeDocument/2006/relationships/slide" Target="slides/slide71.xml"/><Relationship Id="rId88" Type="http://schemas.openxmlformats.org/officeDocument/2006/relationships/slide" Target="slides/slide72.xml"/><Relationship Id="rId89" Type="http://schemas.openxmlformats.org/officeDocument/2006/relationships/slide" Target="slides/slide73.xml"/><Relationship Id="rId90" Type="http://schemas.openxmlformats.org/officeDocument/2006/relationships/slide" Target="slides/slide74.xml"/><Relationship Id="rId91" Type="http://schemas.openxmlformats.org/officeDocument/2006/relationships/slide" Target="slides/slide75.xml"/><Relationship Id="rId92" Type="http://schemas.openxmlformats.org/officeDocument/2006/relationships/slide" Target="slides/slide76.xml"/><Relationship Id="rId93" Type="http://schemas.openxmlformats.org/officeDocument/2006/relationships/slide" Target="slides/slide77.xml"/><Relationship Id="rId94" Type="http://schemas.openxmlformats.org/officeDocument/2006/relationships/slide" Target="slides/slide78.xml"/><Relationship Id="rId95" Type="http://schemas.openxmlformats.org/officeDocument/2006/relationships/slide" Target="slides/slide79.xml"/><Relationship Id="rId96" Type="http://schemas.openxmlformats.org/officeDocument/2006/relationships/slide" Target="slides/slide80.xml"/><Relationship Id="rId97" Type="http://schemas.openxmlformats.org/officeDocument/2006/relationships/slide" Target="slides/slide81.xml"/><Relationship Id="rId98" Type="http://schemas.openxmlformats.org/officeDocument/2006/relationships/slide" Target="slides/slide82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A7CA3-DE18-4629-9B0F-7A59F02E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901CC-AF89-4460-9A69-9C85E4B9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F684B-D4B2-4942-942E-B4428B1C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89929-A149-4F5D-94C4-BC8AC0AF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7B4E2-74D3-4D05-93D3-BA665E1B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A14F9-6252-4ECE-BE5A-7B7D3CA6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7D204-702A-4F91-BE32-B6F3A32E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550A7-6A67-4C25-A8CA-6A535BEA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55082-8C94-4346-951C-D14ADC48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B5EAA-86FC-4131-8556-CE01F52F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4F80C-EBEC-4C58-AA02-5967B305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AD936-8192-4344-8813-2610EF3B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C14AED-7E49-44F2-97AD-B29E9FF5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7BC752-648F-4BBC-8D70-7A77036E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AEB658-000D-4569-B233-7AC9CEEA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9BA5FC-F8B3-449C-BB26-DC40A526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503120-FCA9-4236-850E-2590A8F3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5E1792-0189-4CBE-B041-76E9E7DA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D544D8-397F-437B-8EB3-E2EB7DED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A7D00E-B9C1-4D73-8559-4673832C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2E751C-BD64-44F4-9A62-FCB0362C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BB7032-5483-40E1-81DB-123E84F6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FDB5D4-8787-493D-8E3C-6397CD7D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F57794-8392-458C-9374-DBD5C087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ftr" idx="21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3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ftr" idx="25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ftr" idx="27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ftr" idx="29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ddf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BA44-7830-46BE-BCAD-6062F506D95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1B58-F363-4CEA-AAAE-6B3A012D6E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820E-D3DB-4C7B-938E-AA27419E68F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4A95-A3A4-49D7-A71F-72A91C2A00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ddf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9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11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ftr" idx="13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5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17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19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3"/>
          <p:cNvSpPr/>
          <p:nvPr/>
        </p:nvSpPr>
        <p:spPr>
          <a:xfrm>
            <a:off x="4191120" y="5334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apter 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" descr="bigjava4.jpg"/>
          <p:cNvPicPr/>
          <p:nvPr/>
        </p:nvPicPr>
        <p:blipFill>
          <a:blip r:embed="rId1"/>
          <a:stretch/>
        </p:blipFill>
        <p:spPr>
          <a:xfrm>
            <a:off x="0" y="0"/>
            <a:ext cx="3809880" cy="4724280"/>
          </a:xfrm>
          <a:prstGeom prst="rect">
            <a:avLst/>
          </a:prstGeom>
          <a:ln w="0">
            <a:noFill/>
          </a:ln>
        </p:spPr>
      </p:pic>
      <p:sp>
        <p:nvSpPr>
          <p:cNvPr id="593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4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3"/>
          <p:cNvSpPr/>
          <p:nvPr/>
        </p:nvSpPr>
        <p:spPr>
          <a:xfrm>
            <a:off x="0" y="90864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n’t we place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ddInter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in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ot all bank accounts earn intere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0" y="1051560"/>
            <a:ext cx="914400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ance is a mechanism for extending existing classes by adding instance variables and 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class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SavingsAccount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extends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Bank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added instanc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new</a:t>
            </a:r>
            <a:r>
              <a:rPr b="0" i="1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class inherits the methods of its super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SavingsAccount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collegeFund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=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new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SavingsAccount(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//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Savings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account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with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10%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collegeFund.deposit(5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//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OK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to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use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BankAccount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method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with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SavingsAccount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heritanc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ierarc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0" y="932760"/>
            <a:ext cx="91440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pecify added instance variables, added methods, and changed or overridden 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ublic class SavingsAccount extends BankAccoun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rivate double interestRat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ublic SavingsAccount(double rate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   </a:t>
            </a:r>
            <a:r>
              <a:rPr b="0" i="1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Constructor implementation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ublic void addInterest(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   </a:t>
            </a:r>
            <a:r>
              <a:rPr b="0" i="1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Method implementation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 </a:t>
            </a:r>
            <a:br>
              <a:rPr sz="20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heritanc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ierarc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0" y="888120"/>
            <a:ext cx="9144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ce variables declared in the superclass are present in subclass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SavingsAccou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inherits the balance instance variable from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gains one additional instance variable,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interest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heritanc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ierarc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5" descr="subobject.png"/>
          <p:cNvPicPr/>
          <p:nvPr/>
        </p:nvPicPr>
        <p:blipFill>
          <a:blip r:embed="rId1"/>
          <a:stretch/>
        </p:blipFill>
        <p:spPr>
          <a:xfrm>
            <a:off x="380880" y="3124080"/>
            <a:ext cx="792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0" y="907920"/>
            <a:ext cx="91440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the new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ddInter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class SavingsAccount extends Bank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private double interestR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SavingsAccount(double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interestRate = r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void addInteres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double interest = getBalance() * interestRate /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deposit(interes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heritanc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ierarc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0" y="947160"/>
            <a:ext cx="9144000" cy="39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class has no access to private instance variables of its super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: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ddInter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etBal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ther than updating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 of the superclass (variable i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ddInter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etBal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out specifying an implicit parameter (the calls apply to the same ob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ing from a class differs from implementing an interface: the subclass inherits behavior from the super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heritanc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ierarc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0" y="1009800"/>
            <a:ext cx="9144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An account that earns interest at a fixed r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ingsAccount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ank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R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onstructs a bank account with a given interest r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rate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interes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ingsAccount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erestRate = r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6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0/accounts/SavingsAccount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7010280" y="5867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0" y="100980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Adds the earned interest to the account bal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Interest(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 = getBalance() * interestRate /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posit(interest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0/accounts/SavingsAccount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b95"/>
                </a:solidFill>
                <a:latin typeface="Lucida Sans"/>
              </a:rPr>
              <a:t>Syntax 10.1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6" descr="syntax_inheritance.png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4043520"/>
          </a:xfrm>
          <a:prstGeom prst="rect">
            <a:avLst/>
          </a:prstGeom>
          <a:ln w="0">
            <a:noFill/>
          </a:ln>
        </p:spPr>
      </p:pic>
      <p:sp>
        <p:nvSpPr>
          <p:cNvPr id="648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004b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3"/>
          <p:cNvSpPr/>
          <p:nvPr/>
        </p:nvSpPr>
        <p:spPr>
          <a:xfrm>
            <a:off x="0" y="91620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nstance variables does an object of clas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SavingsAccou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wo instance variables: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interest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0" y="932040"/>
            <a:ext cx="9144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earn about inheri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derstand how to inherit and override superclass meth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able to invoke superclass constru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earn about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protec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ackage access contr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derstand the common superclas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o override it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17e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inheritance for customizing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apter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3"/>
          <p:cNvSpPr/>
          <p:nvPr/>
        </p:nvSpPr>
        <p:spPr>
          <a:xfrm>
            <a:off x="0" y="914400"/>
            <a:ext cx="914400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four methods that you can apply to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Savings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deposi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,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withdra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,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etBalan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ddInter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98989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0" y="914400"/>
            <a:ext cx="914400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las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tends the clas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class is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er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which is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er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0" y="914400"/>
            <a:ext cx="9144000" cy="34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class has no access to the private instance variables of the supercla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class SavingsAccount extends Bank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void addInteres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double interest = getBalance() * interestRate /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balance = balance + interest; //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ommon Error: Shadowing Instanc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0" y="914400"/>
            <a:ext cx="9144000" cy="39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er’s error: “solve” this problem by adding another instance variable with same na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class SavingsAccount extends Bank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private double balance; // Do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void addInteres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double interest = getBalance() * interestRate /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balance = balance + interest; // Compiles but does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// update the correct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ommon Error: Shadowing Instanc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he addInterest method compiles, but it doesn’t update the correct balanc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ommon Error: Shadowing Instanc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6" descr="shadowing.png"/>
          <p:cNvPicPr/>
          <p:nvPr/>
        </p:nvPicPr>
        <p:blipFill>
          <a:blip r:embed="rId1"/>
          <a:stretch/>
        </p:blipFill>
        <p:spPr>
          <a:xfrm>
            <a:off x="304920" y="1828800"/>
            <a:ext cx="739116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0" y="920520"/>
            <a:ext cx="914400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class metho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perclass method if it has the same name and parameter types as a superclas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such a method is applied to a subclass object, the overriding method is exec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verriding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0" y="915480"/>
            <a:ext cx="9144000" cy="56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depos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withdr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s of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Checking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override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depos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withdr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s of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to handle transaction fe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class Bank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void deposit(double amount) { . . 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void withdraw(double amount) { . . 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double getBalance() { . . 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class CheckingAccount extends Bank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void deposit(double amount) { . . 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void withdraw(double amount) { . . 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void deductFees() { . . 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verriding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0" y="886320"/>
            <a:ext cx="91440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Overriding metho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depos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't simply ad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m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class CheckingAccount extends Bank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void deposit(double am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transactionCou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// Now add amount to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balance = balance + amount; //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to modify a private superclass instance variable, you must use a public method of the super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depos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o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Checking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invoke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depos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o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verriding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3"/>
          <p:cNvSpPr/>
          <p:nvPr/>
        </p:nvSpPr>
        <p:spPr>
          <a:xfrm>
            <a:off x="0" y="9468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class CheckingAccount extends Bank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void deposit(double am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transactionCou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// Now add amount to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deposit; // Not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n't work because compiler interp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444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deposit(amou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444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this.deposit(amou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calls the method we are currently writing ⇒ infinite recur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verriding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0" y="880920"/>
            <a:ext cx="9144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sup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rved word to call a method of the super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class CheckingAccount extends Bank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void deposit(double am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transactionCou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// Now add amount to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super.depo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verriding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0" y="986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categorize concepts in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erarch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heritanc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ierarc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5" descr="hierarchy.png"/>
          <p:cNvPicPr/>
          <p:nvPr/>
        </p:nvPicPr>
        <p:blipFill>
          <a:blip r:embed="rId1"/>
          <a:stretch/>
        </p:blipFill>
        <p:spPr>
          <a:xfrm>
            <a:off x="304920" y="1600200"/>
            <a:ext cx="8458200" cy="4599000"/>
          </a:xfrm>
          <a:prstGeom prst="rect">
            <a:avLst/>
          </a:prstGeom>
          <a:ln w="0">
            <a:noFill/>
          </a:ln>
        </p:spPr>
      </p:pic>
      <p:sp>
        <p:nvSpPr>
          <p:cNvPr id="601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0" y="905040"/>
            <a:ext cx="9144000" cy="46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ing methods o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CheckingAccou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invoke a superclass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class CheckingAccount extends Bank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rivate static final int FREE_TRANSACTIONS = 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rivate static final double TRANSACTION_FEE = 2.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rivate int transactionCou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void withdraw(double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transactionCount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// Now subtract amount from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super.withdraw(amou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verriding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7010280" y="5867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0" y="95544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void deductFee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if (transactionCount &gt; FREE_TRANSA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double fees = TRANSACTION_FEE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(transactionCount - FREE_TRANSACTION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super.withdraw(fee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transactionCount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verriding Method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b95"/>
                </a:solidFill>
                <a:latin typeface="Lucida Sans"/>
              </a:rPr>
              <a:t>Syntax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4b95"/>
                </a:solidFill>
                <a:latin typeface="Lucida Sans"/>
              </a:rPr>
              <a:t>10.2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Calling a Superclas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004b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5" descr="syntax_super.png"/>
          <p:cNvPicPr/>
          <p:nvPr/>
        </p:nvPicPr>
        <p:blipFill>
          <a:blip r:embed="rId1"/>
          <a:stretch/>
        </p:blipFill>
        <p:spPr>
          <a:xfrm>
            <a:off x="138240" y="914400"/>
            <a:ext cx="885348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nimation 10.1: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ShockwaveFlash1"/>
          <p:cNvGraphicFramePr/>
          <p:nvPr/>
        </p:nvGraphicFramePr>
        <p:xfrm>
          <a:off x="0" y="914400"/>
          <a:ext cx="914400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410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3"/>
          <p:cNvSpPr/>
          <p:nvPr/>
        </p:nvSpPr>
        <p:spPr>
          <a:xfrm>
            <a:off x="0" y="91440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ze the methods of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SavingsAccou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as inherited, new, and overridd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Savings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lass inherits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depos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withdr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an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etBal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ethods.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ddInter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ethod is new. No methods override superclass metho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98989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3"/>
          <p:cNvSpPr/>
          <p:nvPr/>
        </p:nvSpPr>
        <p:spPr>
          <a:xfrm>
            <a:off x="0" y="91440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withdr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Checking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call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super.withdr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t needs to reduce the balance, and it cannot access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variable direct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3"/>
          <p:cNvSpPr/>
          <p:nvPr/>
        </p:nvSpPr>
        <p:spPr>
          <a:xfrm>
            <a:off x="0" y="91440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deductF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set the transaction count to zer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o that the count can reflect the number of transactions for the following mon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3"/>
          <p:cNvSpPr/>
          <p:nvPr/>
        </p:nvSpPr>
        <p:spPr>
          <a:xfrm>
            <a:off x="0" y="905760"/>
            <a:ext cx="9144000" cy="43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all the superclass constructor, use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erved word in the first statement of the subclass construct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class CheckingAccount extends BankAccou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CheckingAccount(double initialBalanc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Construct super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6e7069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</a:rPr>
              <a:t>super(initialBalance)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Initialize transaction cou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transactionCount 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ubclas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0" y="860040"/>
            <a:ext cx="9144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0040" indent="-2300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ubclass constructor doesn't call superclass constructor, the superclass must have a constructor with no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30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, however, all constructors of the superclass require parameters, then the compiler reports an err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ubclas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0" y="870120"/>
            <a:ext cx="9144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A checking account that charges transaction f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heckingAccount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ank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E_TRANSACTIONS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_FEE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2.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Cou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onstructs a checking account with a given bal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initialBalance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initial ba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heckingAccount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Bal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Construct super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up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initialBalanc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Initialize transaction 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actionCount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0/accounts/CheckingAccount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7010280" y="5867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0" y="980280"/>
            <a:ext cx="91440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lasses can form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heritance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es representing the most general concepts are near the root, more specialized classes towards the branch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heritanc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ierarc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6" descr="swing.png"/>
          <p:cNvPicPr/>
          <p:nvPr/>
        </p:nvPicPr>
        <p:blipFill>
          <a:blip r:embed="rId1"/>
          <a:stretch/>
        </p:blipFill>
        <p:spPr>
          <a:xfrm>
            <a:off x="304920" y="2286000"/>
            <a:ext cx="5141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4"/>
          <p:cNvSpPr/>
          <p:nvPr/>
        </p:nvSpPr>
        <p:spPr>
          <a:xfrm>
            <a:off x="0" y="838080"/>
            <a:ext cx="914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deposit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actionCoun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Now add amount to bal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up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deposit(amount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withdraw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actionCoun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Now subtract amount from bal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up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withdraw(amount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0" y="304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0/accounts/CheckingAccount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7010280" y="5867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4"/>
          <p:cNvSpPr/>
          <p:nvPr/>
        </p:nvSpPr>
        <p:spPr>
          <a:xfrm>
            <a:off x="0" y="923760"/>
            <a:ext cx="914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Deducts the accumulated fees and resets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ransaction c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deductFees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transactionCount &gt; FREE_TRANSA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fees = TRANSACTION_FEE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transactionCount - FREE_TRANSACTION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up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withdraw(fee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actionCount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0" y="304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0/accounts/CheckingAccount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0" y="304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b95"/>
                </a:solidFill>
                <a:latin typeface="Lucida Sans"/>
              </a:rPr>
              <a:t>Syntax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4b95"/>
                </a:solidFill>
                <a:latin typeface="Lucida Sans"/>
              </a:rPr>
              <a:t>10.3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Calling a Superclass Co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004b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5" descr="syntax_superclass_constructor.png"/>
          <p:cNvPicPr/>
          <p:nvPr/>
        </p:nvPicPr>
        <p:blipFill>
          <a:blip r:embed="rId1"/>
          <a:stretch/>
        </p:blipFill>
        <p:spPr>
          <a:xfrm>
            <a:off x="304920" y="914400"/>
            <a:ext cx="86104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98989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0" y="91764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idn’t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SavingsAccou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or in Section 10.2 call its superclass construct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t was content to use the default constructor of the superclass, which sets the balance to ze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0" y="914400"/>
            <a:ext cx="914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invoke a superclass method with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yword, does the call have to be the first statement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is is a requirement only for constructors. For example,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SavingsAccount.depos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ethod first increments the transaction count, then calls the superclass meth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0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76320" y="914400"/>
            <a:ext cx="906768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 to convert subclass reference to superclass refer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SavingsAccount collegeFund = new SavingsAccount(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BankAccount anAccount = collegeFun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Object anObject = collegeFund;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ree object references stored in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collegeF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n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n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refer to the same object of typ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Savings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6"/>
          <p:cNvSpPr/>
          <p:nvPr/>
        </p:nvSpPr>
        <p:spPr>
          <a:xfrm>
            <a:off x="0" y="304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onverting Between Subclass and Superclass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5" descr="same-object1.png"/>
          <p:cNvPicPr/>
          <p:nvPr/>
        </p:nvPicPr>
        <p:blipFill>
          <a:blip r:embed="rId1"/>
          <a:stretch/>
        </p:blipFill>
        <p:spPr>
          <a:xfrm>
            <a:off x="457200" y="3772080"/>
            <a:ext cx="70102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3"/>
          <p:cNvSpPr/>
          <p:nvPr/>
        </p:nvSpPr>
        <p:spPr>
          <a:xfrm>
            <a:off x="0" y="894960"/>
            <a:ext cx="9144000" cy="48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class references don’t know the full 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anAccount.deposit(1000); //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anAccount.addInterest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No--not a method of the class to which an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belongs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ould anyone want to kn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an objec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use code that knows about the superclass but not the subcl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void transfer(double amount, BankAccount ot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withdraw(amou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other.deposit(amou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be used to transfer money from any type of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0" y="304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onverting Between Subclass and Superclass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3"/>
          <p:cNvSpPr/>
          <p:nvPr/>
        </p:nvSpPr>
        <p:spPr>
          <a:xfrm>
            <a:off x="0" y="914400"/>
            <a:ext cx="9144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asionally you need to convert from a superclass refer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 subclass refer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BankAccount anAccount = (BankAccount) anObject;</a:t>
            </a:r>
            <a:r>
              <a:rPr b="0" lang="en-US" sz="2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st is dangerous: If you are wrong, an exception is thr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Use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instanceof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instance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ests whether an object belongs to a particular typ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if (anObject instanceof BankAccou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BankAccount anAccount = (BankAccount) anObjec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0" y="3049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onverting Between Subclass and Superclass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b95"/>
                </a:solidFill>
                <a:latin typeface="Lucida Sans"/>
              </a:rPr>
              <a:t>Syntax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4b95"/>
                </a:solidFill>
                <a:latin typeface="Lucida Sans"/>
              </a:rPr>
              <a:t>10.4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The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instanceof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5" descr="syntax_instanceof.png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3772080"/>
          </a:xfrm>
          <a:prstGeom prst="rect">
            <a:avLst/>
          </a:prstGeom>
          <a:ln w="0">
            <a:noFill/>
          </a:ln>
        </p:spPr>
      </p:pic>
      <p:sp>
        <p:nvSpPr>
          <p:cNvPr id="742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004b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3"/>
          <p:cNvSpPr/>
          <p:nvPr/>
        </p:nvSpPr>
        <p:spPr>
          <a:xfrm>
            <a:off x="0" y="879480"/>
            <a:ext cx="914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id the second parameter of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transfer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have to be of typ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, for example,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Savings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e want to use the method for all kinds of bank accounts. Had we used a parameter of typ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Savings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we couldn’t have called the method with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Checking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b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0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0" y="973440"/>
            <a:ext cx="914400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cl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re general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re specialized class that inherits from the super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: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JPan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a subclass of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J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heritanc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ierarc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3"/>
          <p:cNvSpPr/>
          <p:nvPr/>
        </p:nvSpPr>
        <p:spPr>
          <a:xfrm>
            <a:off x="0" y="932040"/>
            <a:ext cx="914400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an’t we change the second parameter of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trans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to the typ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e cannot invoke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depos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ethod on a variable of typ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0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0" y="914400"/>
            <a:ext cx="9144000" cy="41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a variable doesn’t completely determine type of object to which it ref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BankAccount aBankAccount = new SavingsAccount(10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// aBankAccount holds a reference to a SavingsAccou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6e7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BankAccount anAccount = new CheckingAccoun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anAccount.deposit(10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ich deposit method is call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namic method lookup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the virtual machine calls an instance method, it locates the method of the implicit parameter's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olymorphism and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0" y="914400"/>
            <a:ext cx="914400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ublic void transfer(double amount, BankAccount ot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withdraw(amou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other.deposit(amou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anAccount.transfer(1000, anotherAccou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two method calls res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anAccount.withdraw(10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anotherAccount.deposit(10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olymorphism and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0" y="914400"/>
            <a:ext cx="914400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lymorphis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ility to treat objects with differences in behavior in a uniform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method c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withdraw(amou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is a shortcu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this.withdraw(amou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refer to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 subclas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olymorphism and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0" y="917640"/>
            <a:ext cx="914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program tests the BankAccount class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its subclass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T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vingsAccount momsSavings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ingsAccount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0.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eckingAccount harrysChecking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heckingAccount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msSavings.deposit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00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msSavings.transfer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20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harrysChecking);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arrysChecking.withdraw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5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arrysChecking.withdraw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msSavings.transfer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0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harrysCheckin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arrysChecking.withdraw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4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6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0/accounts/AccountTester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7010280" y="5867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4"/>
          <p:cNvSpPr/>
          <p:nvPr/>
        </p:nvSpPr>
        <p:spPr>
          <a:xfrm>
            <a:off x="0" y="87300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Simulate end of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msSavings.addInteres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arrysChecking.deductFee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Mom’s savings balance: 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momsSavings.getBalance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Expected: 7035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Harry’s checking balance: 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harrysChecking.getBalance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Expected: 1116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0/accounts/AccountTester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0" y="4189680"/>
            <a:ext cx="9144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Ru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Mom's savings balance: 7035.0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Expected: 7035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Harry's checking balance: 1116.0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Expected: 11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3"/>
          <p:cNvSpPr/>
          <p:nvPr/>
        </p:nvSpPr>
        <p:spPr>
          <a:xfrm>
            <a:off x="0" y="933480"/>
            <a:ext cx="914400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variable of typ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holds a non-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ence, what do you know about the object to which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object is an instance o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r one of its subclass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0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3"/>
          <p:cNvSpPr/>
          <p:nvPr/>
        </p:nvSpPr>
        <p:spPr>
          <a:xfrm>
            <a:off x="-41400" y="951120"/>
            <a:ext cx="918540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a checking account, what is the effect of calling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.transfer(1000,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alance o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nchanged, and the transaction count is incremented twic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0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0" y="914400"/>
            <a:ext cx="914400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ed features can be accessed by all subclasses and by all classes in the same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s the problem that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Checking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s need access to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ance variable of the superclas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class Bank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rotected double bal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rotected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"/>
          <p:cNvSpPr/>
          <p:nvPr/>
        </p:nvSpPr>
        <p:spPr>
          <a:xfrm>
            <a:off x="0" y="914400"/>
            <a:ext cx="91440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signer of the superclass has no control over the authors of subcl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30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 of the subclass methods can corrupt the superclass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30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es with protected instance variables are hard to modify — the protected variables cannot be changed, because someone somewhere out there might have written a subclass whose code depends o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ed data can be accessed by all methods of classes in the same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best to leave all data private and provide accessor methods for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rotected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0" y="920160"/>
            <a:ext cx="9144000" cy="43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fferent account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ing accou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ll number of free transaction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ges transaction fee for additional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vings accou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ns interest that compounds mont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class: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lasses: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Checking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Savings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7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heritanc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ierarc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lasses defined without an explicit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extends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use automatically exten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: The Cosmic Super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7" descr="object.png"/>
          <p:cNvPicPr/>
          <p:nvPr/>
        </p:nvPicPr>
        <p:blipFill>
          <a:blip r:embed="rId1"/>
          <a:stretch/>
        </p:blipFill>
        <p:spPr>
          <a:xfrm>
            <a:off x="152280" y="1752480"/>
            <a:ext cx="739152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: The Cosmic Super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6"/>
          <p:cNvSpPr/>
          <p:nvPr/>
        </p:nvSpPr>
        <p:spPr>
          <a:xfrm>
            <a:off x="0" y="91440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ful method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String toString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boolean equals(Object otherObjec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Object clone()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idea to override these methods in your cla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0" y="1028160"/>
            <a:ext cx="9144000" cy="43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a string representation of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debugg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Rectangle box = new Rectangle(5, 10, 20, 3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String s = box.toString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Sets s to "java.awt.Rectangle[x=5,y=10,width=20,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height=30]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toSt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alled whenever you concatenate a string wit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obje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"box=" + bo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Result: "box=java.awt.Rectangle[x=5,y=10,width=20,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height=30]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verriding the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toString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0" y="921960"/>
            <a:ext cx="914400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Object.toSt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s class name an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sh 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objec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BankAccount momsSavings = new BankAccount(5000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String s = momsSavings.toString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Sets s to something like "BankAccount@d24606bf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verriding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toString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0" y="887400"/>
            <a:ext cx="91440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a nicer representation of an object, overrid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String toString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return "BankAccount[balance=" + balance + "]"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ks bet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BankAccount momsSavings = new BankAccount(5000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String s = momsSavings.toString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Sets s to "BankAccount[balance=5000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verriding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toString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verriding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equal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7"/>
          <p:cNvSpPr/>
          <p:nvPr/>
        </p:nvSpPr>
        <p:spPr>
          <a:xfrm>
            <a:off x="76320" y="914400"/>
            <a:ext cx="8381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or sa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if (coin1.equals(coin2))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// Contents ar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8" descr="equal-objects.png"/>
          <p:cNvPicPr/>
          <p:nvPr/>
        </p:nvPicPr>
        <p:blipFill>
          <a:blip r:embed="rId1"/>
          <a:stretch/>
        </p:blipFill>
        <p:spPr>
          <a:xfrm>
            <a:off x="228600" y="2209680"/>
            <a:ext cx="4724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verriding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equals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7"/>
          <p:cNvSpPr/>
          <p:nvPr/>
        </p:nvSpPr>
        <p:spPr>
          <a:xfrm>
            <a:off x="76320" y="914400"/>
            <a:ext cx="883908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s for references to the same ob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if (coin1 == (coin2))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// Objects ar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6" descr="same-object.png"/>
          <p:cNvPicPr/>
          <p:nvPr/>
        </p:nvPicPr>
        <p:blipFill>
          <a:blip r:embed="rId1"/>
          <a:stretch/>
        </p:blipFill>
        <p:spPr>
          <a:xfrm>
            <a:off x="380880" y="2286000"/>
            <a:ext cx="7010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0" y="892440"/>
            <a:ext cx="914400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override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equa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of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ublic class Co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ublic boolean equals(Object otherObjec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verriding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equal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"/>
          <p:cNvSpPr/>
          <p:nvPr/>
        </p:nvSpPr>
        <p:spPr>
          <a:xfrm>
            <a:off x="0" y="915840"/>
            <a:ext cx="9144000" cy="48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change parameter type; us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e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ublic class Co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ublic boolean equals(Object otherObjec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Coin other = (Coin) otherObjec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return name.equals(other.name) &amp;&amp; value =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other.valu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also override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o t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s have the same hash co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verriding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equal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4"/>
          <p:cNvSpPr/>
          <p:nvPr/>
        </p:nvSpPr>
        <p:spPr>
          <a:xfrm>
            <a:off x="0" y="887400"/>
            <a:ext cx="91440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an object reference gives two references to same objec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 account = newBankAccount(10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 account2 = accou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account2.deposit(500); // Now both account and accoun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// refer to a bank account with a balance of 1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, need to make a copy of the objec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clon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8" descr="cloning.png"/>
          <p:cNvPicPr/>
          <p:nvPr/>
        </p:nvPicPr>
        <p:blipFill>
          <a:blip r:embed="rId1"/>
          <a:stretch/>
        </p:blipFill>
        <p:spPr>
          <a:xfrm>
            <a:off x="304920" y="3886200"/>
            <a:ext cx="5333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973080"/>
            <a:ext cx="914400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 of account cl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support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getBala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 support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deposi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withdraw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ethods, but implementation details di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ing account needs a method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deductFe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 deduct the monthly fees and to reset the transaction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ing account must override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deposi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withdraw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ethods to count the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7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heritanc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ierarc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0" y="873000"/>
            <a:ext cx="9144000" cy="27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cl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to make a new object with the same state as an existing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 clonedAccount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(BankAccount) account.clon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cast return value because return type i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clon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Object.clone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0" y="9144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llow cop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7" descr="shallow-copy.png"/>
          <p:cNvPicPr/>
          <p:nvPr/>
        </p:nvPicPr>
        <p:blipFill>
          <a:blip r:embed="rId1"/>
          <a:stretch/>
        </p:blipFill>
        <p:spPr>
          <a:xfrm>
            <a:off x="228600" y="1447920"/>
            <a:ext cx="66294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4"/>
          <p:cNvSpPr/>
          <p:nvPr/>
        </p:nvSpPr>
        <p:spPr>
          <a:xfrm>
            <a:off x="0" y="914400"/>
            <a:ext cx="9144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systematically clone all subob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used with ca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clared a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prevents from accidentally calling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x.clone(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lass to which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ngs hasn’t redefine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override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with care (see Special Topic 10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Object.clone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3"/>
          <p:cNvSpPr/>
          <p:nvPr/>
        </p:nvSpPr>
        <p:spPr>
          <a:xfrm>
            <a:off x="0" y="9144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the call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x.equals(x)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return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t certainly shoul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nless, of course,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3"/>
          <p:cNvSpPr/>
          <p:nvPr/>
        </p:nvSpPr>
        <p:spPr>
          <a:xfrm>
            <a:off x="0" y="923400"/>
            <a:ext cx="914400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implement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erms o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Should yo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turns a string that describes all instance variables, you can simply call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n the implicit and explicit parameters, and compare the results. However, comparing the variables is more efficient than converting them into string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0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0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cripting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5" descr="scripting.png"/>
          <p:cNvPicPr/>
          <p:nvPr/>
        </p:nvPicPr>
        <p:blipFill>
          <a:blip r:embed="rId1"/>
          <a:stretch/>
        </p:blipFill>
        <p:spPr>
          <a:xfrm>
            <a:off x="228600" y="990720"/>
            <a:ext cx="746748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0" y="895320"/>
            <a:ext cx="9144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heritance for complex frames to make programs easier to underst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 subclass o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the components as instance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them in the constructor of your subc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itialization code gets complex, simply add some helper meth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sing Inheritance to Customize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b3a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0/frame/InvestmentFrame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6"/>
          <p:cNvSpPr/>
          <p:nvPr/>
        </p:nvSpPr>
        <p:spPr>
          <a:xfrm>
            <a:off x="0" y="914400"/>
            <a:ext cx="9144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ActionEv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ActionListe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Butt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Lab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Pan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TextFiel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vestmentFrame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extend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butt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 lab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pan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nkAccount ac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RAME_WIDTH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4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RAME_HEIGHT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1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_RATE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_BALANCE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1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5"/>
          <p:cNvSpPr/>
          <p:nvPr/>
        </p:nvSpPr>
        <p:spPr>
          <a:xfrm>
            <a:off x="7010280" y="5867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b3a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10/frame/InvestmentFrame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6"/>
          <p:cNvSpPr/>
          <p:nvPr/>
        </p:nvSpPr>
        <p:spPr>
          <a:xfrm>
            <a:off x="0" y="914400"/>
            <a:ext cx="9144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vestmentFram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nkAccount(INITIAL_BALAN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Use instance variables for compon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bel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balance: 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+ account.getBalanc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Use helper metho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Butt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FRAME_WIDTH, FRAME_HEIGH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5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Butt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Add Interest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tionListener listener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InterestListen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.addActionListener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5"/>
          <p:cNvSpPr/>
          <p:nvPr/>
        </p:nvSpPr>
        <p:spPr>
          <a:xfrm>
            <a:off x="7010280" y="5867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b3a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5"/>
          <p:cNvSpPr/>
          <p:nvPr/>
        </p:nvSpPr>
        <p:spPr>
          <a:xfrm>
            <a:off x="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xample: Investment Viewer Program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6"/>
          <p:cNvSpPr/>
          <p:nvPr/>
        </p:nvSpPr>
        <p:spPr>
          <a:xfrm>
            <a:off x="0" y="914400"/>
            <a:ext cx="9144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.add(butt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.add(label);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0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InterestListener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lement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Action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 = account.getBalance() * INTEREST_RATE /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1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ccount.deposit(interes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bel.setText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balance: 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+ account.getBalanc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b3a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heritanc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ierarc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5" descr="account.png"/>
          <p:cNvPicPr/>
          <p:nvPr/>
        </p:nvPicPr>
        <p:blipFill>
          <a:blip r:embed="rId1"/>
          <a:stretch/>
        </p:blipFill>
        <p:spPr>
          <a:xfrm>
            <a:off x="304920" y="1066680"/>
            <a:ext cx="5535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course, we still need a class with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5"/>
          <p:cNvSpPr/>
          <p:nvPr/>
        </p:nvSpPr>
        <p:spPr>
          <a:xfrm>
            <a:off x="0" y="1463760"/>
            <a:ext cx="914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Fr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program displays the growth of an invest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nvestmentViewe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Frame frame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nvestmentFram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DefaultCloseOperation(JFrame.EXIT_ON_CLOS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Visible(true);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6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xample: Investment Viewer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b3a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3"/>
          <p:cNvSpPr/>
          <p:nvPr/>
        </p:nvSpPr>
        <p:spPr>
          <a:xfrm>
            <a:off x="0" y="932040"/>
            <a:ext cx="914400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Java source files are required by the investment viewer application when we use inheritance to define the frame cla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ree: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InvestmentFrameVie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Investment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an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0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"/>
          <p:cNvSpPr/>
          <p:nvPr/>
        </p:nvSpPr>
        <p:spPr>
          <a:xfrm>
            <a:off x="0" y="914400"/>
            <a:ext cx="914400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Investment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uctor call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setSize(FRAME_WIDTH, FRAME_HEIGH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as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of the investment viewer class in Chapter 9 calle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frame.setSize(FRAME_WIDTH, FRAME_HEIGH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Investment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nstructor adds the pane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sel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0.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0" y="90864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urpose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TextCompon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in Figure 2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 express the common behavior of text variables and text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1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20:00:38Z</dcterms:created>
  <dc:creator>Bill</dc:creator>
  <dc:description/>
  <dc:language>en-US</dc:language>
  <cp:lastModifiedBy>alegaspi</cp:lastModifiedBy>
  <dcterms:modified xsi:type="dcterms:W3CDTF">2010-02-24T21:24:41Z</dcterms:modified>
  <cp:revision>198</cp:revision>
  <dc:subject/>
  <dc:title>Slide 1</dc:title>
</cp:coreProperties>
</file>