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AFA89-490D-48F8-BD7B-A0BBE3D3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57E98-B9E5-4A82-9CBF-69B7FE15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3029B-814E-4803-B9F4-6FED951A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46FD4-669C-4652-B777-597973AC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CF155-270F-461C-83AC-9B2141DC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EC6C0-8F04-47D3-A80B-F4AF9E48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F5A69-DC44-4C67-9F3B-D715CBE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58B3B-FCDB-4BE5-91F6-766F0BD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693FC-73D9-4BEC-99D3-1470600D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20723-F636-4DF7-8478-A90ADA91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A4E9D-482D-417D-A49E-983AC8E3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8E43D-ECBD-469D-9AEA-F74423B9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4685C-54CD-4FF8-9313-F9639329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19487-2B54-4A9A-973A-B5FFC98E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993B0-C282-4020-AF5A-0C51028B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DEBFE-856B-46C5-9468-D0405AC7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EE16C-AA8F-4D7B-A3EF-1FBDC429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F83DA-FFC0-4522-9C19-84183640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28F35-98F8-48F6-A74E-91E8E16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D25BB-5D3A-40D8-A559-6AB9281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DC06C-99AC-46DB-B907-FED5F654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C8969-809F-45D9-9C52-23CFFE50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FE357-942D-416F-9811-87DAA4AA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ECE5E-D942-4379-B510-D6FAD073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2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4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6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8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76BF-DFA5-4332-B0BC-6E3E864411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A102-2335-4220-913C-16C5F49E6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23D4-F719-496A-8365-A7D5EEFC36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B769-87D6-4357-9BF5-C674B2B4B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6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8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191120" y="53341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apter 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bigjava4.jpg"/>
          <p:cNvPicPr/>
          <p:nvPr/>
        </p:nvPicPr>
        <p:blipFill>
          <a:blip r:embed="rId1"/>
          <a:stretch/>
        </p:blipFill>
        <p:spPr>
          <a:xfrm>
            <a:off x="0" y="0"/>
            <a:ext cx="3809880" cy="4724280"/>
          </a:xfrm>
          <a:prstGeom prst="rect">
            <a:avLst/>
          </a:prstGeom>
          <a:ln w="0">
            <a:noFill/>
          </a:ln>
        </p:spPr>
      </p:pic>
      <p:sp>
        <p:nvSpPr>
          <p:cNvPr id="569" name="Line 4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ther Ways to Compute Triang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0" y="914400"/>
            <a:ext cx="91440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a triangle equals the 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1 + 2 + 3 + ... + width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simple loo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double area = 0;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or (int i = 1; i &lt;= width; i++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area = area + 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a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1 + 2 + ... + n = n × (n + 1)/2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=&gt; width * (width + 1)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imation 1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ShockwaveFlash1"/>
          <p:cNvGraphicFramePr/>
          <p:nvPr/>
        </p:nvGraphicFramePr>
        <p:xfrm>
          <a:off x="0" y="83808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48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triangle/Triangle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91440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 triangular shape composed of stacked unit squares like th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[]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[][]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ri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 triangular sh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Width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width (and height) of the tri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riangle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Wid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dth = aWid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731520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triangle/Triangle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91440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mputes the area of the tri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width &lt;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width =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iangle smallerTriangle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riangle(width -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mallerArea = smallerTriangle.getArea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mallerArea + wid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triangle/TriangleTest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0" y="4267080"/>
            <a:ext cx="9144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Ru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nter width: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10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rea: 55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xpected: 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87624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riangleT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iangle t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riangle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rea = t.getArea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Area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are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55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0" y="887400"/>
            <a:ext cx="9144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if (width == 1) { return 1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et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unnecess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uppose we omit the statement. When computing the area of a triangle with width 1, we compute the area of the triangle with width 0 as 0, and then add 1, to arrive at the correc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0" y="91440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modify the program to recursively compute the area of a squa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ou would compute the smaller area recursively, then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smallerArea + width + width - 1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[][][]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[]</a:t>
            </a:r>
            <a:br>
              <a:rPr sz="2400"/>
            </a:br>
            <a:r>
              <a:rPr b="0" lang="en-US" sz="24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[][][]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[]</a:t>
            </a:r>
            <a:br>
              <a:rPr sz="2400"/>
            </a:br>
            <a:r>
              <a:rPr b="0" lang="en-US" sz="24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[][][]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[]</a:t>
            </a:r>
            <a:br>
              <a:rPr sz="2400"/>
            </a:b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[][][]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urse, it would be simpler to comp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selfCheck2"/>
          <p:cNvPicPr/>
          <p:nvPr/>
        </p:nvPicPr>
        <p:blipFill>
          <a:blip r:embed="rId1"/>
          <a:stretch/>
        </p:blipFill>
        <p:spPr>
          <a:xfrm>
            <a:off x="237960" y="5330880"/>
            <a:ext cx="86868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racing Through Recursiv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5" descr="tracing.png"/>
          <p:cNvPicPr/>
          <p:nvPr/>
        </p:nvPicPr>
        <p:blipFill>
          <a:blip r:embed="rId1"/>
          <a:stretch/>
        </p:blipFill>
        <p:spPr>
          <a:xfrm>
            <a:off x="152280" y="914400"/>
            <a:ext cx="47246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inking Recur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0" y="914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Test whether a sentence is a palindr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indro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tring that is equal to itself when you reverse all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man, a plan, a canal – Pana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 hang a salami, I’m a lasagna h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dam, I’m Ad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mplement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isPalindrome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0" y="91440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class Sentenc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rivate String text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**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Constructs a sentence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@param aText a string containing all characters of   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   the sentenc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*/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public Sentence(String aText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text = aText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**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Tests whether this sentence is a palindrome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@return true if this sentence is a palindrome, fals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otherwis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*/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apte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913680"/>
            <a:ext cx="9144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arn about the method of recu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the relationship between recursion and it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alyze problems that are much easier to solve by recursion than by it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arn to “think recursively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ble to use recursive helper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when the use of recursion affects the efficiency of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mplement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isPalindrom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0" y="914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boolean isPalindrome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..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inking Recursively: Step-by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0" y="873000"/>
            <a:ext cx="9144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various ways to simplif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several possibilit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 the first charac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 the last charac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 both the first and last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 a character from the midd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t the string into two ha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inking Recursively: Step-by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0" y="914400"/>
            <a:ext cx="914400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olutions with simpler inputs into a solution of the original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promising simplification: Remove first and last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m, I’m Ada” is a palindrome to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s, a word is a palindrome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irst and last letters match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obtained by removing the first and last letters is a pali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first or last character is not a letter? Ignore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first and last characters are letters, check whether they match;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so, remove both and test shorter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last character isn’t a letter, remove it and test shorter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first character isn’t a letter, remove it and test shorter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inking Recursively: Step-by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0" y="87156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olutions to the simplest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ings with two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pecial case required; step two still app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ings with a single charac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y are palindr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mpty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palindr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inking Recursively: Step-by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0" y="914400"/>
            <a:ext cx="914400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solution by combining the simple cases and the reduction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boolean isPalindrome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length = text.length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/ Separate case for shortest strings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f (length &lt;= 1) { return true; }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/ Get first and last characters, converted to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/ lowercase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char first = Character.toLowerCase(text.charAt(0)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char last = Character.toLowerCase(text.charAt(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length - 1)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f (Character.isLetter(first) &amp;&amp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Character.isLetter(last)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// Both are letters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if (first == last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inking Recursively: Step-by-Step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0" y="9144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Remove both first and last character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Sentence shorter = new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   Sentence(text.substring(1, length - 1)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return shorter.isPalindrome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els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return false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else if (!Character.isLetter(last)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// Remove last character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Sentence shorter = new Sentence(text.substring(0,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length - 1)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return shorter.isPalindrome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els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inking Recursively: Step-by-Step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0" y="9144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Remove first character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Sentence shorter = new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Sentence(text.substring(1)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return shorter.isPalindrome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ursive Help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0" y="91440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t is easier to find a recursive solution if you make a slight change to the original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alindrome test of previous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bit inefficient to construct new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entenc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in every st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ursive Help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0" y="914400"/>
            <a:ext cx="914400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than testing whether the sentence is a palindrome, check whether a substring is a palindro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**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Tests whether a substring of the sentence is a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palindrome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@param start the index of the first character of th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substring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@param end the index of the last character of th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substring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@return true if the substring is a palindrom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*/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boolean isPalindrome(int start, int 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ursive Help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0" y="914400"/>
            <a:ext cx="914400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simply call the helper method with positions that test the entire str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boolean isPalindrome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return isPalindrome(0, text.length() - 1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riang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0" y="914400"/>
            <a:ext cx="9144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area of a triangle of wid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each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[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has an area of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riangle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ird triangle number is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[]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[][]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[][]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ursive Helper Methods: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isPali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0" y="9144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boolean isPalindrome(int start, int end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/ Separate case for substrings of length 0 and 1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f (start &gt;= end) return true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/ Get first and last characters, converted to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/ lowercase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char first = Character.toLowerCase(text.charAt(start));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char last = Character.toLowerCase(text.charAt(end)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f (Character.isLetter(first) &amp;&amp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Character.isLetter(last)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if (first == last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// Test substring that doesn't contain th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// matching letters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return isPalindrome(start + 1, end - 1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else return 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3"/>
          <p:cNvSpPr/>
          <p:nvPr/>
        </p:nvSpPr>
        <p:spPr>
          <a:xfrm>
            <a:off x="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ursive Helper Methods: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isPalindrome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0" y="9144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else if (!Character.isLetter(last)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// Test substring that doesn't contain the last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// character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return isPalindrome(start, end - 1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els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// Test substring that doesn't contain the first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// character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return isPalindrome(start + 1, end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914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have to give the same name to both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irst one could be given a different name such a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ubstringIsPalindr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0" y="914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es the recursiv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stop calling itself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tart &gt;=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hat is, when the investigated string is either empty or has length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ibonacci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0" y="914400"/>
            <a:ext cx="9144000" cy="26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onacci sequence is a sequence of numbers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en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1, 2, 3, 5, 8, 13, 21, 34, 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fib/RecursiveFib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0" y="87012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computes Fibonacci numbers using a recursive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ursiveF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nner in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nter n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in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n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 = fib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fib(" + i + ") =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fib/RecursiveFib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0" y="952560"/>
            <a:ext cx="9144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mputes a Fibonacci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n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nth Fibonacci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&lt;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(n -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+ fib(n -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0" y="3780000"/>
            <a:ext cx="9144000" cy="30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Ru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Enter n: </a:t>
            </a:r>
            <a:r>
              <a:rPr b="0" lang="en-US" sz="1600" spc="-1" strike="noStrike">
                <a:solidFill>
                  <a:srgbClr val="0057c1"/>
                </a:solidFill>
                <a:latin typeface="Courier New"/>
              </a:rPr>
              <a:t>50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fib(1) = 1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fib(2) = 1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fib(3) = 2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fib(4) = 3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fib(5) = 5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fib(6) = 8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fib(7) = 13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...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fib(50) = 12586269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Efficiency of 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0" y="914400"/>
            <a:ext cx="9144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implementation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fib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the output closely as you run the test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few calls 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f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quite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r values, the program pauses an amazingly long time between out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d out the problem, let’s inse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fib/RecursiveFibTrac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0" y="914400"/>
            <a:ext cx="9144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prints trace messages that show how ofte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recursive method for computing Fibonacci numbers calls itse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ursiveFibTra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nner in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nter n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in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 = fib(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fib(" + n + ") =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fib/RecursiveFibTrac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0" y="914400"/>
            <a:ext cx="9144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mputes a Fibonacci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n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nth Fibonacci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ntering fib: n =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&lt;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f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 f = fib(n -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+ fib(n -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xiting fib: n =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 return value =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utlin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f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Triangle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0" y="89856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class Triangl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rivate int width; 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public Triangle(int aWidth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width = aWidth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public int getArea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..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fib/RecursiveFibTrac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0" y="990720"/>
            <a:ext cx="9144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Ru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 n: 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  <a:ea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2 return valu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1 return valu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3 return value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2 return valu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4 return value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2 return valu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1 return valu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fib/RecursiveFibTracer.java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0" y="9907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1 return valu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3 return value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5 return value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2 return valu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1 return valu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3 return value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ntering fib: n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2 return valu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4 return value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Exiting fib: n = 6 return value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fib(6)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all Tree for Computing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fib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1140120" y="1532520"/>
            <a:ext cx="68637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6" descr="recursiveFib.png"/>
          <p:cNvPicPr/>
          <p:nvPr/>
        </p:nvPicPr>
        <p:blipFill>
          <a:blip r:embed="rId1"/>
          <a:stretch/>
        </p:blipFill>
        <p:spPr>
          <a:xfrm>
            <a:off x="228600" y="914400"/>
            <a:ext cx="74674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Efficiency of 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0" y="91440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takes so long because it computes the same values over and 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utation of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fib(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fib(3)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itate the pencil-and-paper process to avoid computing the values more than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fib/LoopFib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91440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computes Fibonacci numbers using an iterative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pF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nner in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nter n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in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n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 = fib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fib(" + i + ") =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fib/LoopFib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0" y="91440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mputes a Fibonacci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n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nth Fibonacci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&lt;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erValue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Value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alue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n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ewValue = oldValue + older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lderValue = old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ldValue = new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fib/LoopFib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0" y="914400"/>
            <a:ext cx="91440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Ru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nter n: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50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ib(1) = 1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ib(2) = 1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ib(3) = 2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ib(4) = 3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ib(5) = 5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ib(6) = 8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ib(7) = 13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..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ib(50) = 12586269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Efficiency of 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0" y="838080"/>
            <a:ext cx="91440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, a recursive solution runs much slower than its iterative counterp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the recursive solution is only slightly s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terativ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only slightly better than recursive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recursive method call takes a certain amount of processor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ompilers can avoid recursive method calls if they follow simple patter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ilers don’t do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cases, a recursive solution is easier to understand and implement correctly than an iterative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terate is human, to recurse divine.” L. Peter Deuts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erativ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isPalindrome</a:t>
            </a:r>
            <a:r>
              <a:rPr b="1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0" y="9144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boolean isPalindrome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start = 0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end = text.length() - 1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while (start &lt; end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char first =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Character.toLowerCase(text.charAt(start)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char last = Character.toLowerCase(text.charAt(end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if (Character.isLetter(first) &amp;&amp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Character.isLetter(last)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// Both are letters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if (first == last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   start++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   end--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erativ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isPalindrom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0" y="91440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els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   return false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if (!Character.isLetter(last)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end--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if (!Character.isLetter(first)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start++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return true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andling Triangle of Widt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0" y="901800"/>
            <a:ext cx="914400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iangle consists of a single squ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area is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code 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getArea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widt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int getArea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if (width == 1) { return 1; }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..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0" y="914400"/>
            <a:ext cx="91440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faster to compute the triangle numbers recursively, as shown in Section 13.1, or is it faster to use a loop that computes 1 + 2 + 3 + . . . + wid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oop is slightly faster. Of course, it is even faster to simply compute width * (width + 1) / 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0" y="914400"/>
            <a:ext cx="9144000" cy="27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mpute the factorial function either with a loop, using the definition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= 1 × 2 × ... ×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recursively, using the definition that 0! = 1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! ×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s the recursive approach inefficient in this ca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, the recursive solution is about as efficient as the iterative approach. Both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1 multiplications to compu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!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er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0" y="914400"/>
            <a:ext cx="914400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class that will list all permutations of a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mutation is a rearrangement of the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ing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"eat"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ix permu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"eat"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"eta"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"aet"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"tea"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"ta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ublic Interface of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Permutation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0" y="914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class PermutationGenerator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public PermutationGenerator(String aWord) { ...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ArrayList&lt;String&gt; getPermutations() { ...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r>
              <a:rPr b="0" lang="en-US" sz="1800" spc="-1" strike="noStrike">
                <a:solidFill>
                  <a:srgbClr val="6e70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3"/>
          <p:cNvSpPr/>
          <p:nvPr/>
        </p:nvSpPr>
        <p:spPr>
          <a:xfrm>
            <a:off x="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permute/PermutationGeneratorDemo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0" y="914400"/>
            <a:ext cx="9144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Li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emonstrates the permutation gener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mutationGenerator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mutationGenerator generator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mutationGenerator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eat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List&lt;String&gt; permutations = generator.getPermuta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ring s : permuta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731520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3"/>
          <p:cNvSpPr/>
          <p:nvPr/>
        </p:nvSpPr>
        <p:spPr>
          <a:xfrm>
            <a:off x="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permute/PermutationGeneratorDemo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0" y="914400"/>
            <a:ext cx="914400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R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at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ta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et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t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t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t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o Generate All Per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0" y="914400"/>
            <a:ext cx="914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ll permutations that start with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'e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'a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't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nerate permutations starting with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'e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need to find all permutations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"at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same problem with simpler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cu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o Generate All Per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0" y="914400"/>
            <a:ext cx="9144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getPermu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op through all positions in the word to be permu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osition, compute the shorter word obtained by remo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String shorterWord = word.substring(0, i) + 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word.substring(i + 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permutation generator to get permutations of the shorter 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ermutationGenerator shorterPermutationGenerator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= new PermutationGenerator(shorterWord); ArrayList&lt;String&gt; shorterWordPermutations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= shorterPermutationGenerator.getPermutation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o Generate All Per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0" y="914400"/>
            <a:ext cx="914400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, add the removed letter to front of all permutations of the shorter 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or (String s : shorterWordPermutations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result.add(word.charAt(i) + s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: Simplest possible string is the empty string; single permutation, it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permute/PermutationGenerator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0" y="91440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class generates permutations of 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mutation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wo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 permutation genera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Word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word to perm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mutationGenerator(String a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ord = aWo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7315200" y="5729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andling the Gene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0" y="855720"/>
            <a:ext cx="914400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we know the area of the smaller, colored triang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[] </a:t>
            </a:r>
            <a:br>
              <a:rPr sz="2000"/>
            </a:b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[][] </a:t>
            </a:r>
            <a:br>
              <a:rPr sz="2000"/>
            </a:b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[][][]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[][][]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of larger triangle can be calculat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mallerArea + width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area of the smaller tri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a smaller triangle and ask it for its are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Triangle smallerTriangle = new Triangle(width - 1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nt smallerArea = smallerTriangle.getArea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permute/PermutationGenerator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0" y="91440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Gets all permutations of a given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&lt;String&gt; getPermutation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List&lt;String&gt; permutations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&lt;String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empty string has a single permutation: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word.length() =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mutations.add(wor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mutation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3"/>
          <p:cNvSpPr/>
          <p:nvPr/>
        </p:nvSpPr>
        <p:spPr>
          <a:xfrm>
            <a:off x="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permute/PermutationGenerator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0" y="932040"/>
            <a:ext cx="9144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Loop through all character 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word.length()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Form a simpler word by removing the ith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horterWord = word.substring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word.substring(i +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Generate all permutations of the simpler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mutationGenerator shorterPermutationGenera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mutationGenerator(shorterWor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rrayList&lt;String&gt; shorterWordPermu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= shorterPermutationGenerator.getPermutation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dd the removed character to the fron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each permutation of the simpler wor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ring s : shorterWordPermut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ermutations.add(word.charAt(i) + 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Return all permu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muta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0" y="871560"/>
            <a:ext cx="91440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all permutations of the four-letter wor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be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y ar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ed by the six permutations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ed by the six permutations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ed by the six permutations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ed by the six permutations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0" y="91440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recursion for the permutation generator stops at the empty string. What simple modification would make the recursion stop at strings of length 0 or 1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imply chang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f (word.length() == 0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f (word.length() &lt;= 1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cause a word with a single letter is also its sole permu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0" y="914400"/>
            <a:ext cx="9144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n’t it easy to develop an iterative solution for the permutation generat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 iterative solution would have a loop whose body computes the next permutation from the previous ones. But there is no obvious mechanism for getting the next permutation. For example, if you already found permutation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t is not clear how you use that information to get the next permutation. Actually, there is an ingenious mechanism for doing just that, but it is far from obvi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 Exercise P13.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Limits of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2293200" y="1637640"/>
            <a:ext cx="45594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7" descr="turing"/>
          <p:cNvPicPr/>
          <p:nvPr/>
        </p:nvPicPr>
        <p:blipFill>
          <a:blip r:embed="rId1"/>
          <a:stretch/>
        </p:blipFill>
        <p:spPr>
          <a:xfrm>
            <a:off x="0" y="914400"/>
            <a:ext cx="5724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Limits of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7" descr="turingMachine"/>
          <p:cNvPicPr/>
          <p:nvPr/>
        </p:nvPicPr>
        <p:blipFill>
          <a:blip r:embed="rId1"/>
          <a:stretch/>
        </p:blipFill>
        <p:spPr>
          <a:xfrm>
            <a:off x="228600" y="838080"/>
            <a:ext cx="564048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Mutual Recu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0" y="914400"/>
            <a:ext cx="914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mpute the value of arithmetic expression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3 + 4 * 5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(3 + 4) * 5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1 - (2 - (3 - (4 - 5)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expression is complic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*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nd more strongly than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heses can be used to group subexpres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3"/>
          <p:cNvSpPr/>
          <p:nvPr/>
        </p:nvSpPr>
        <p:spPr>
          <a:xfrm>
            <a:off x="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yntax Diagrams for Evaluating an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6" descr="syntaxDiagrams.png"/>
          <p:cNvPicPr/>
          <p:nvPr/>
        </p:nvPicPr>
        <p:blipFill>
          <a:blip r:embed="rId1"/>
          <a:stretch/>
        </p:blipFill>
        <p:spPr>
          <a:xfrm>
            <a:off x="304920" y="990720"/>
            <a:ext cx="5378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Mutual Recu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0" y="914400"/>
            <a:ext cx="9144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pression can broken down into a sequence of terms, separated by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is broken down into a sequence of factors, separated by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is either a parenthesized expression or a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ntax trees represent which operations should be carried out 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mplete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etAr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0" y="89856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int getArea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f (width == 1) { return 1;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Triangle smallerTriangle = new Triangle(width - 1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smallerArea = smallerTriangle.getArea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return smallerArea + width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yntax Tree for Two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1019160" y="1503720"/>
            <a:ext cx="70311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6" descr="syntaxTree.png"/>
          <p:cNvPicPr/>
          <p:nvPr/>
        </p:nvPicPr>
        <p:blipFill>
          <a:blip r:embed="rId1"/>
          <a:stretch/>
        </p:blipFill>
        <p:spPr>
          <a:xfrm>
            <a:off x="152280" y="914400"/>
            <a:ext cx="69343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utually Recursiv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0" y="91440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mutual recursion, a set of cooperating methods calls each other repeated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ute the value of an expression, implement 3 methods that call each other recursive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Expression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Term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Factor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getExpressionValue</a:t>
            </a:r>
            <a:r>
              <a:rPr b="1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0" y="9144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int getExpressionValue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value = getTermValue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boolean done = false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while (!done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String next = tokenizer.peekToken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if ("+".equals(next) || "-".equals(next)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tokenizer.nextToken(); // Discard "+" or "-"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int value2 = getTermValue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if ("+".equals(next)) value = value + value2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else value = value - value2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else done = true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return value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98989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0" y="3049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getTermValue</a:t>
            </a:r>
            <a:r>
              <a:rPr b="1" lang="en-US" sz="28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etTermVal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etFactor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ame way, multiplying or dividing the facto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getFactorValue</a:t>
            </a:r>
            <a:r>
              <a:rPr b="1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0" y="9144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int getFactorValue()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value;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String next =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tokenpublic int getFactorValue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nt value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String next = tokenizer.peekToken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if ("(".equals(next)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tokenizer.nextToken(); // Discard "("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value = getExpressionValue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tokenizer.nextToken(); // Discard ")"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els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value = Integer.parseInt(tokenizer.nextToken()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return value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Mutual Recu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0" y="914400"/>
            <a:ext cx="9144000" cy="53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the mutual recursion clearly, trace through the expression </a:t>
            </a:r>
            <a:r>
              <a:rPr b="0" lang="en-US" sz="2200" spc="-1" strike="noStrike">
                <a:solidFill>
                  <a:srgbClr val="6e7069"/>
                </a:solidFill>
                <a:latin typeface="Courier New"/>
              </a:rPr>
              <a:t>(3+4)*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ExpressionValu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TermValue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TermValue</a:t>
            </a:r>
            <a:r>
              <a:rPr b="0" lang="en-US" sz="22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ll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Factor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FactorValue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umes the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FactorValue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ExpressionValue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53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ExpressionValue</a:t>
            </a:r>
            <a:r>
              <a:rPr b="0" lang="en-US" sz="18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s eventually with the value of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having consumed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3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This is the recursive c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FactorValue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mes th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FactorValue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TermValue</a:t>
            </a:r>
            <a:r>
              <a:rPr b="0" lang="en-US" sz="22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mes the input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return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35</a:t>
            </a:r>
            <a:r>
              <a:rPr b="0" lang="en-US" sz="22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ExpressionValu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35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expr/Evaluator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914400"/>
            <a:ext cx="9144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 class that can compute the value of an arithmetic expre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alu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ressionTokenizer tokeniz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n evalu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nExpression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 string containing the ex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o be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aluator(String anExpr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kenizer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ressionTokenizer(anExpress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expr/Evaluator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0" y="91440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Evaluates the expre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value of the expre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xpressionValu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getTermValu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boolea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fal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whi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!d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ext = tokenizer.peekToke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+".equals(next) || "-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quals(nex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kenizer.nextToken();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Discard "+" or "-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2 = getTermValu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+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quals(next)) { value = value + value2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 value = value - value2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ne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tru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expr/Evaluator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91440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Evaluates the next term found in the expre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value of the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ermValu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getFactorValu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boolea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fal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whi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!d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ext = tokenizer.peekToke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*".equals(next) || "/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quals(nex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kenizer.nextToke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2 = getFactorValu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*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quals(next)) { value = value * value2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 value = value / value2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ne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tru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7315200" y="5958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expr/Evaluator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0" y="91440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Evaluates the next factor found in the expre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value of the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actorValu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ext = tokenizer.peekToke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(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quals(nex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kenizer.nextToken();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Discard "(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alue = getExpressionValu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kenizer.nextToken();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Discard ")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alue = Integer.parseInt(tokenizer.nextToke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3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mputing the area of a triangle with width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0" y="914400"/>
            <a:ext cx="91440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getArea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akes a smaller triangle of width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ll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getArea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at tria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t method makes a smaller triangle of width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call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Area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at tria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t method makes a smaller triangle of width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call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Area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at tria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t method return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thod return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smallerArea + width = 1 + 2 =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thod return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smallerArea + width = 3 + 3 = 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hod return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smallerArea + width = 6 + 4 =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expr/ExpressionTokenizer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0" y="930240"/>
            <a:ext cx="9144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class breaks up a string describing an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into tokens: numbers, parentheses, and oper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ressionTokeni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npu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;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start of the current t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;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position after the end of the current t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 tokeni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nInput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string to token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ressionTokenizer(String anIn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 = anInpu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xtToken();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Find the first t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7315200" y="6033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3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expr/ExpressionTokenizer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0" y="89856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Peeks at the next token without consuming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next token or null if there are no more 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eekTok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art &gt;= input.length()) {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.substring(start, end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7315200" y="6033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3"/>
          <p:cNvSpPr/>
          <p:nvPr/>
        </p:nvSpPr>
        <p:spPr>
          <a:xfrm>
            <a:off x="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expr/ExpressionTokenizer.java (con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5"/>
          <p:cNvSpPr/>
          <p:nvPr/>
        </p:nvSpPr>
        <p:spPr>
          <a:xfrm>
            <a:off x="0" y="762120"/>
            <a:ext cx="9144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Gets the next token and moves the tokenizer to the following to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next token or null if there are no more 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extTok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 = peekToke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 = 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art &gt;= input.length()) {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Character.isDigit(input.charAt(start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d = start +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end &lt; input.length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&amp;&amp; Character.isDigit(input.charAt(end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nd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d = start +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3/expr/ExpressionCalculato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84132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calculates the value of an expr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isting of numbers, arithmetic operators, and parenth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ressionCalc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nner in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nter an expression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nput = in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aluator e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valuator(inpu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e.getExpression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input + 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=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valu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0" y="533412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Ru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nter an expression: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3+4*5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3+4*5=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0" y="914400"/>
            <a:ext cx="9144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fference between a term and a factor? Why do we need both concep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actors are combined by multiplicative operators (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terms are combined by additive operators (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 We need both so that multiplication can bind more strongly than addi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0" y="914400"/>
            <a:ext cx="91440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expression parser use mutual recurs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handle parenthesized expressions, such a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+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*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(4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+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ubexpressio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4 + 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handled by a recursive call 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Expression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3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0" y="914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you try to parse the illegal expressio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3 + 4 * ) 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Specifically, which method throws an excep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nteger.parse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 i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Factor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rows an exception when it is given the 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")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0" y="91440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ursive computation solves a problem by using the solution of the same problem with simpler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cursion to terminate, there must be special cases for the simplest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ete our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, we must handle width &lt;=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f (width &lt;= 0)  return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key requirements for recursion succ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recursive call must simplify the computation in some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must be special cases to handle the simplest computations direc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9:50:45Z</dcterms:created>
  <dc:creator>Bill</dc:creator>
  <dc:description/>
  <dc:language>en-US</dc:language>
  <cp:lastModifiedBy>alegaspi</cp:lastModifiedBy>
  <dcterms:modified xsi:type="dcterms:W3CDTF">2010-02-24T21:34:47Z</dcterms:modified>
  <cp:revision>141</cp:revision>
  <dc:subject/>
  <dc:title>Slide 1</dc:title>
</cp:coreProperties>
</file>