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3CFB-53FF-4298-ABFC-ED0F9F61F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B2C-821E-4783-8E44-E29D1D54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F189-CAE2-4648-9717-6FBE4D1E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A6FF-23D7-48A2-ABDA-CDA19162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80E27-0AC0-48C0-8C65-900E034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DA2CF-A56E-475E-B17E-E6CE992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59B41-D51D-484B-BB8F-67979DE4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DD8B-3C3F-4328-BB4B-5AD0454C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9D2FC-2D04-4396-9710-82E84754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0D521-C698-4234-9D4D-621363D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A1057-431D-43A5-B9DA-F4F855A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DE1CB-4651-4EDE-9C22-83E9CD3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CB225-1EB7-40E0-8E4A-60C35EFD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2395-497D-4F09-961B-F96C0EAE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27E0A-FFFD-4896-99D2-94997BD3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58C50-9F94-487D-BFAD-155CDAEF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23138-01BC-4EA1-8013-302B9D7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C50B0-18A6-4336-9CB2-4015CED2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0B834-EC21-4E32-A6DE-FBFD5C0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0B677-E29F-4A27-8E38-FAAC5B3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5F8C3-D89D-41BC-A1BE-A928B460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AAD07-AD1E-4420-A13C-75E6CB4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517C6-E1F7-4E3A-BD80-21F68D8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65493-341E-4D02-A4B2-B1FC28E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17DF7-CB08-4E75-8622-46AC6624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E3541-2AEA-4426-A80E-0A7889D3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9DC91-B628-4DD1-B99F-254EEA7D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0BB-7348-417E-871D-4F7F5C5AA83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8321-EA77-42DF-9B26-4F644C7FE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5AD9-29B7-4574-986C-810FC3A5FA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2EB1-13C7-47AB-B79D-92764193F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209680" y="5334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1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Sorting and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bigjava4.jpg"/>
          <p:cNvPicPr/>
          <p:nvPr/>
        </p:nvPicPr>
        <p:blipFill>
          <a:blip r:embed="rId1"/>
          <a:stretch/>
        </p:blipFill>
        <p:spPr>
          <a:xfrm>
            <a:off x="0" y="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ArrayUtil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0" y="858960"/>
            <a:ext cx="9144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Program Ru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[65, 46, 14, 52, 38, 2, 96, 39, 14, 33, 13, 4, 24, 99, 89, 77, 73, 87, 36, 8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[2, 4, 13, 14, 14, 24, 33, 36, 38, 39, 46, 52, 65, 73, 77, 81, 87, 89, 96, 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0" y="9144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e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? What would happen if you simply assigne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ping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would not work. The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end up being the same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0" y="91440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eps does the selection sort algorithm go through to sort the sequenc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6 5 4 3 2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066680" y="2438280"/>
          <a:ext cx="2057400" cy="198144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3080"/>
                <a:gridCol w="342720"/>
                <a:gridCol w="343080"/>
                <a:gridCol w="342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ofiling the Selection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0" y="914400"/>
            <a:ext cx="91440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measure the time the algorithm takes to exec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clude the time the program takes to 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clude outpu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topWatch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to measure execution time of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can start, stop and give elapsed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System.currentTimeMillis</a:t>
            </a:r>
            <a:r>
              <a:rPr b="0" i="1" lang="en-US" sz="20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topWatch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t the stopwatch just before the s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p the stopwatch just after the s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the elaps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topWatch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87624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stopwatch accumulates time when it is running. You 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repeatedly start and stop the stopwatch. You can us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topwatch to measure the running time of a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lapsed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sRunn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stopwatch that is in the stoppe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nd has no time accumul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Watc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topWatch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914400"/>
            <a:ext cx="91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tarts the stopwatch. Time starts accumulating n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isRunning)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Running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ime = System.currentTimeMilli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tops the stopwatch. Time stops accumulating and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is added to the elapsed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!isRunning)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Running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Time = System.currentTimeMilli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apsedTime = elapsedTime + endTime - start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topWatch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932040"/>
            <a:ext cx="914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Returns the total elapsed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total elapse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lapsedTim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isRunnin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Time = System.currentTimeMilli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lapsedTime + endTime - start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lapsed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tops the watch and resets the elapsed time to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e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apsedTim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Running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electionSortTim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88596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measures how long it takes to sort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rray of a user-specified size with th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ort 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Sort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nner i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 array size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i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Construct random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ArrayUtil.randomIntArray(n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Sorter sort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Sorter(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electionSortTim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91440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Use stopwatch to time selection 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opWatch tim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Watc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rter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.s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lapsed time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timer.getElapsedTime() + 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 milliseconds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0" y="487692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Enter array size: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100000</a:t>
            </a:r>
            <a:r>
              <a:rPr b="0" lang="en-US" sz="2000" spc="-1" strike="noStrike">
                <a:solidFill>
                  <a:srgbClr val="0033cc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Elapsed time: 27880 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ection Sort on Various Size Array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1943280" y="176400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941480" y="1219320"/>
          <a:ext cx="2438280" cy="2566800"/>
        </p:xfrm>
        <a:graphic>
          <a:graphicData uri="http://schemas.openxmlformats.org/drawingml/2006/table">
            <a:tbl>
              <a:tblPr/>
              <a:tblGrid>
                <a:gridCol w="882720"/>
                <a:gridCol w="1555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 Box 92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Obtained with a Pentium processor, 2 GHz, Java 6, Lin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0" y="91440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udy several sorting and searching algorith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preciate that algorithms for the same task can differ widely in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big-Oh no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how to estimate and compare the performance of algorith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how to measure the running time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ection Sort on Various Size Arr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5" descr="selsort.png"/>
          <p:cNvPicPr/>
          <p:nvPr/>
        </p:nvPicPr>
        <p:blipFill>
          <a:blip r:embed="rId1"/>
          <a:stretch/>
        </p:blipFill>
        <p:spPr>
          <a:xfrm>
            <a:off x="228600" y="1066680"/>
            <a:ext cx="4572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ection Sort on Various Size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ing the size of the array more than doubles the time needed to sort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0" y="914400"/>
            <a:ext cx="9144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how many seconds would it take to sort a data set of 80,000 valu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r times as long as 40,000 values, or about 36 seco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0" y="9144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graph in Figure 1. What mathematical shape does it resem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ra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0" y="-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the Performance of the Selection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0" y="914400"/>
            <a:ext cx="91440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array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unt how many times an array element is vis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find the smallest, visit n elements + 2 visits for the sw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find the next smallest, visit (n - 1) elements + 2 visits for the sw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ast term is 2 elements visited to find the smallest + 2 visits for the sw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0" y="-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the Performance of the Selection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+ 2 + (n - 1) + 2 + (n - 2) + 2 + ...+ 2 +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can be simplified to 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/2  +  5n/2  - 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n/2 - 3 is small compared to 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/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o let’s ignor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o ignore the 1/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t cancels out when comparin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3"/>
          <p:cNvSpPr/>
          <p:nvPr/>
        </p:nvSpPr>
        <p:spPr>
          <a:xfrm>
            <a:off x="0" y="-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the Performance of the Selection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visits is of the or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big-Oh notation: The number of visits is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ing the number of elements in an array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ies the processing time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-Oh notation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s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ws no faster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to big-Oh notation: Locate fastest-growing term, and ignore constant coe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0" y="91440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increase the size of a data set tenfold, how much longer does it take to sort it with the selection sort algorith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takes about 100 times long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0" y="9144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 to be so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is bigger than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- 3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4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is 8 and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- 3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ser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91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initial sequenc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[0] ... a[k]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r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k = 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304920" y="1447920"/>
          <a:ext cx="2193840" cy="366480"/>
        </p:xfrm>
        <a:graphic>
          <a:graphicData uri="http://schemas.openxmlformats.org/drawingml/2006/table">
            <a:tbl>
              <a:tblPr/>
              <a:tblGrid>
                <a:gridCol w="438120"/>
                <a:gridCol w="439560"/>
                <a:gridCol w="438120"/>
                <a:gridCol w="439920"/>
                <a:gridCol w="43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Rectangle 35"/>
          <p:cNvSpPr/>
          <p:nvPr/>
        </p:nvSpPr>
        <p:spPr>
          <a:xfrm>
            <a:off x="52920" y="2058480"/>
            <a:ext cx="72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[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lement needs to be inserted bef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04920" y="2604960"/>
          <a:ext cx="2193840" cy="366840"/>
        </p:xfrm>
        <a:graphic>
          <a:graphicData uri="http://schemas.openxmlformats.org/drawingml/2006/table">
            <a:tbl>
              <a:tblPr/>
              <a:tblGrid>
                <a:gridCol w="438120"/>
                <a:gridCol w="439560"/>
                <a:gridCol w="438120"/>
                <a:gridCol w="439920"/>
                <a:gridCol w="43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Rectangle 65"/>
          <p:cNvSpPr/>
          <p:nvPr/>
        </p:nvSpPr>
        <p:spPr>
          <a:xfrm>
            <a:off x="-51480" y="320148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[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304920" y="3747960"/>
          <a:ext cx="2193840" cy="366840"/>
        </p:xfrm>
        <a:graphic>
          <a:graphicData uri="http://schemas.openxmlformats.org/drawingml/2006/table">
            <a:tbl>
              <a:tblPr/>
              <a:tblGrid>
                <a:gridCol w="438120"/>
                <a:gridCol w="439560"/>
                <a:gridCol w="438120"/>
                <a:gridCol w="439920"/>
                <a:gridCol w="43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Rectangle 95"/>
          <p:cNvSpPr/>
          <p:nvPr/>
        </p:nvSpPr>
        <p:spPr>
          <a:xfrm>
            <a:off x="-51480" y="44208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[3]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04920" y="5029200"/>
          <a:ext cx="2193840" cy="366840"/>
        </p:xfrm>
        <a:graphic>
          <a:graphicData uri="http://schemas.openxmlformats.org/drawingml/2006/table">
            <a:tbl>
              <a:tblPr/>
              <a:tblGrid>
                <a:gridCol w="438120"/>
                <a:gridCol w="439560"/>
                <a:gridCol w="438120"/>
                <a:gridCol w="439920"/>
                <a:gridCol w="43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125"/>
          <p:cNvSpPr/>
          <p:nvPr/>
        </p:nvSpPr>
        <p:spPr>
          <a:xfrm>
            <a:off x="-23040" y="563976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[4]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04920" y="6248520"/>
          <a:ext cx="2193840" cy="366480"/>
        </p:xfrm>
        <a:graphic>
          <a:graphicData uri="http://schemas.openxmlformats.org/drawingml/2006/table">
            <a:tbl>
              <a:tblPr/>
              <a:tblGrid>
                <a:gridCol w="438120"/>
                <a:gridCol w="439560"/>
                <a:gridCol w="438120"/>
                <a:gridCol w="439920"/>
                <a:gridCol w="43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658" name="Rectangle 155"/>
          <p:cNvSpPr/>
          <p:nvPr/>
        </p:nvSpPr>
        <p:spPr>
          <a:xfrm>
            <a:off x="2830680" y="5604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ec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s an array by repeatedly finding the smallest elemen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sorted tail region and moving it to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when run on large data 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orting an array of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80880" y="2971800"/>
          <a:ext cx="2254320" cy="366840"/>
        </p:xfrm>
        <a:graphic>
          <a:graphicData uri="http://schemas.openxmlformats.org/drawingml/2006/table">
            <a:tbl>
              <a:tblPr/>
              <a:tblGrid>
                <a:gridCol w="451080"/>
                <a:gridCol w="450720"/>
                <a:gridCol w="450720"/>
                <a:gridCol w="451080"/>
                <a:gridCol w="45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insertionsort/InsertionSorte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0" y="93024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lass sorts an array, using the insertion s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ionSo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n insertion sor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Array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rray to 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ionSorter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n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= anArr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3"/>
          <p:cNvSpPr/>
          <p:nvPr/>
        </p:nvSpPr>
        <p:spPr>
          <a:xfrm>
            <a:off x="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insertionsort/InsertionSor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91440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orts the array managed by this insertion so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length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Move all larger elements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j &gt;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a[j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 &gt; n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j] = a[j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Insert the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[j] =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rg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0" y="9144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s an array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ting the array in ha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ursively sorting each ha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rging the sorted h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ally faster than the selection 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rge S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76320" y="989640"/>
            <a:ext cx="836424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an array in half and sort each half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the two sorted arrays into a single so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6" descr="merge1"/>
          <p:cNvPicPr/>
          <p:nvPr/>
        </p:nvPicPr>
        <p:blipFill>
          <a:blip r:embed="rId1"/>
          <a:stretch/>
        </p:blipFill>
        <p:spPr>
          <a:xfrm>
            <a:off x="380880" y="1533600"/>
            <a:ext cx="3191040" cy="371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merge"/>
          <p:cNvPicPr/>
          <p:nvPr/>
        </p:nvPicPr>
        <p:blipFill>
          <a:blip r:embed="rId2"/>
          <a:stretch/>
        </p:blipFill>
        <p:spPr>
          <a:xfrm>
            <a:off x="380880" y="2533680"/>
            <a:ext cx="6924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rg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0" y="9144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void sort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a.length &lt;= 1) return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[] first = new int[a.length / 2]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[] second = new int[a.length - first.length]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Copy the first half of a into first, the second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into seco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MergeSorter firstSorter = new MergeSorter(first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MergeSorter secondSorter = new MergeSorter(second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firstSorter.sort(); </a:t>
            </a:r>
            <a:br>
              <a:rPr sz="2000"/>
            </a:br>
            <a:r>
              <a:rPr b="1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secondSorter.sort(); </a:t>
            </a:r>
            <a:br>
              <a:rPr sz="2000"/>
            </a:br>
            <a:r>
              <a:rPr b="1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merge(first, second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6e7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mergesort/MergeSorte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83808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lass sorts an array, using the merge sort 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So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merge sor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Array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rray to 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Sorter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n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= anArr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mergesort/MergeSor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0" y="83808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orts the array managed by this merge so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a.length &lt;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first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a.length /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econd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a.length - first.length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Copy the first half of a into first, the second half into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rst.length; i++) { first[i] = a[i]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econd.length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[i] = a[first.length + i]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rgeSorter firstSorte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Sorter(fir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rgeSorter secondSorte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Sorter(seco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Sorter.so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condSorter.so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rge(first, seco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mergesort/MergeSor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0" y="838080"/>
            <a:ext cx="91440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Merges two sorted arrays into the array managed by this merge sor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first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first sorted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second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second sorted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first,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ec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First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Next element to consider in the first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cond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Next element to consider in the second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Next open position i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s long as neither iFirst nor iSecond is past the end, 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smaller element into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iFirst &lt; first.length &amp;&amp; iSecond &lt; second.leng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first[iFirst] &lt; second[iSecond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j] = first[iFirs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Firs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j] = second[iSecond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econd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731520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mergesort/MergeSor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838080"/>
            <a:ext cx="9144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Note that only one of the two loops below copies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Copy any remaining entries of the first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iFirst &lt; first.length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[j] = first[iFirst]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irst++; j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Copy any remaining entries of the second ha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iSecond &lt; second.length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[j] = second[iSecond]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econd++; j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mergesort/MergeSortDemo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901800"/>
            <a:ext cx="914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the merge sort algorithm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orting an array that is filled with random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Sort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ArrayUtil.randomIntArray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Arrays.toString(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rgeSorter sort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rgeSorter(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rter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Arrays.toString(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rting an Array of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0" y="9144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mallest and swap it with the first el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smallest. It is already in the correct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smallest and swap it with first element of unsorted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unsorted portion is of length 1, we ar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380880" y="1447920"/>
          <a:ext cx="2254320" cy="366480"/>
        </p:xfrm>
        <a:graphic>
          <a:graphicData uri="http://schemas.openxmlformats.org/drawingml/2006/table">
            <a:tbl>
              <a:tblPr/>
              <a:tblGrid>
                <a:gridCol w="451080"/>
                <a:gridCol w="450720"/>
                <a:gridCol w="450720"/>
                <a:gridCol w="451080"/>
                <a:gridCol w="45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80880" y="2604960"/>
          <a:ext cx="2254320" cy="366840"/>
        </p:xfrm>
        <a:graphic>
          <a:graphicData uri="http://schemas.openxmlformats.org/drawingml/2006/table">
            <a:tbl>
              <a:tblPr/>
              <a:tblGrid>
                <a:gridCol w="451080"/>
                <a:gridCol w="450720"/>
                <a:gridCol w="450720"/>
                <a:gridCol w="451080"/>
                <a:gridCol w="45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380880" y="4052880"/>
          <a:ext cx="2254320" cy="366840"/>
        </p:xfrm>
        <a:graphic>
          <a:graphicData uri="http://schemas.openxmlformats.org/drawingml/2006/table">
            <a:tbl>
              <a:tblPr/>
              <a:tblGrid>
                <a:gridCol w="451080"/>
                <a:gridCol w="450720"/>
                <a:gridCol w="450720"/>
                <a:gridCol w="451080"/>
                <a:gridCol w="45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80880" y="5119560"/>
          <a:ext cx="2254320" cy="366840"/>
        </p:xfrm>
        <a:graphic>
          <a:graphicData uri="http://schemas.openxmlformats.org/drawingml/2006/table">
            <a:tbl>
              <a:tblPr/>
              <a:tblGrid>
                <a:gridCol w="451080"/>
                <a:gridCol w="450720"/>
                <a:gridCol w="450720"/>
                <a:gridCol w="451080"/>
                <a:gridCol w="45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80880" y="6186600"/>
          <a:ext cx="2254320" cy="366480"/>
        </p:xfrm>
        <a:graphic>
          <a:graphicData uri="http://schemas.openxmlformats.org/drawingml/2006/table">
            <a:tbl>
              <a:tblPr/>
              <a:tblGrid>
                <a:gridCol w="451080"/>
                <a:gridCol w="450720"/>
                <a:gridCol w="450720"/>
                <a:gridCol w="451080"/>
                <a:gridCol w="45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3"/>
          <p:cNvSpPr/>
          <p:nvPr/>
        </p:nvSpPr>
        <p:spPr>
          <a:xfrm>
            <a:off x="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mergesort/MergeSortDemo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0" y="9144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Program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[8, 81, 48, 53, 46, 70, 98, 42, 27, 76, 33, 24, 2, 76, 62, 89, 90, 5, 13, 2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[2, 5, 8, 13, 21, 24, 27, 33, 42, 46, 48, 53, 62, 70, 76, 76, 81, 89, 90, 9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0" y="91440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only one of the tw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t the end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do any 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preceding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 ends, the loop condition must b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iFirst &gt;= first.leng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iSecond &gt;= second.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gan’s La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0" y="914400"/>
            <a:ext cx="91440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ly run the merge sort algorithm on the array 8 7 6 5 4 3 2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ort 8 7 6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, first sort 8 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, first sort 8. It’s so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7. It’s so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them: 7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with 6 5 to get 5 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them to 5 6 7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with 4 3 2 1: Sort 4 3 by sorting 4 and 3 and merging them to 3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2 1 by sorting 2 and 1 and merging them to 1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3 4 and 1 2 to 1 2 3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merge 5 6 7 8 and 1 2 3 4 to 1 2 3 4 5 6 7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the Merge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982800" y="176400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36440" y="1066680"/>
          <a:ext cx="7543800" cy="2567160"/>
        </p:xfrm>
        <a:graphic>
          <a:graphicData uri="http://schemas.openxmlformats.org/drawingml/2006/table">
            <a:tbl>
              <a:tblPr/>
              <a:tblGrid>
                <a:gridCol w="927360"/>
                <a:gridCol w="3128760"/>
                <a:gridCol w="3487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 Sort (millisecon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Sort (millisecon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rge Sort Timing vs. Selection S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5" descr="mergesort.png"/>
          <p:cNvPicPr/>
          <p:nvPr/>
        </p:nvPicPr>
        <p:blipFill>
          <a:blip r:embed="rId1"/>
          <a:stretch/>
        </p:blipFill>
        <p:spPr>
          <a:xfrm>
            <a:off x="304920" y="1066680"/>
            <a:ext cx="4724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the Merge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0" y="914400"/>
            <a:ext cx="9144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array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unt how many times an array element is vis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wer of 2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number of visits to create the two sub-arrays and then merge the two sorted arr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visits to merge each element or 3n vis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n visits to create the two sub-arr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 of 5n vis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the Merge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0" y="91440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note the number of visits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(n) = T(n/2) + T(n/2) + 5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(n) = 2T(n/2) + 5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its for an array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(n/2) = 2T(n/4) + 5n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 T(n) = 2 × 2T(n/4) +5n + 5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its for an array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4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(n/4) = 2T(n/8) + 5n/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 T(n) = 2 × 2 × 2T(n/8) + 5n + 5n + 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Merge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0" y="914400"/>
            <a:ext cx="91440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eating the proc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m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(n) = 2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(n/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+5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ce n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en k=m: T(n)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(n/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+5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(n) = nT(1) +5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(n) = n + 5nlo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alyzing Merge 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0" y="9144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ablish growth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p the lower-order term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p the constant factor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p the base of the logarithm since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logarithms are related by a constant fa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are left with n log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big-Oh notation: Number of visits is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rge Sort Vs Selec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0" y="9144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ort is an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sort is an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unction grows much more slowly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electionSorte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914400"/>
            <a:ext cx="9144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lass sorts an array, using the selection s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S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selection so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Array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rray to s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Sorter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n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= an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0" y="914400"/>
            <a:ext cx="91440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timing data for the merge sort algorithm in the table at the beginning of this section, how long would it take to sort an array of 100,000 valu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ximately 100,000 × log(100,000) / 50,000 × log(50,000) = 2 × 5 / 4.7 = 2.13 times the time required for 50,000 values. That’s 2.13 × 97 milliseconds or approximately 207 milli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uble the size of an array, how much longer will the merge sort algorithm take to sort the new arr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2(1+ log(2)/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.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, that is a value &lt;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Quick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903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and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tion the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rt each partition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7" descr="quicksort"/>
          <p:cNvPicPr/>
          <p:nvPr/>
        </p:nvPicPr>
        <p:blipFill>
          <a:blip r:embed="rId1"/>
          <a:stretch/>
        </p:blipFill>
        <p:spPr>
          <a:xfrm>
            <a:off x="811080" y="2305080"/>
            <a:ext cx="40579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Quick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0" y="91440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void sort(int from, int to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from &gt;= to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return; int p =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artition(from, to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sort(from, p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sort(p + 1, to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Quicksort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7" descr="partitions"/>
          <p:cNvPicPr/>
          <p:nvPr/>
        </p:nvPicPr>
        <p:blipFill>
          <a:blip r:embed="rId1"/>
          <a:stretch/>
        </p:blipFill>
        <p:spPr>
          <a:xfrm>
            <a:off x="0" y="914400"/>
            <a:ext cx="6299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Quicksor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0" y="91440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rivate int partition(int from, int to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pivot = a[from]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i = from - 1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j = to + 1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while (i &lt; j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++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while (a[i] &lt; pivot) i++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j--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while (a[j] &gt; pivot) j--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i &lt; j) swap(i, j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return j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First Program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7" descr="babbage"/>
          <p:cNvPicPr/>
          <p:nvPr/>
        </p:nvPicPr>
        <p:blipFill>
          <a:blip r:embed="rId1"/>
          <a:stretch/>
        </p:blipFill>
        <p:spPr>
          <a:xfrm>
            <a:off x="76320" y="914400"/>
            <a:ext cx="354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0" y="91440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earc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tial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s all values in an array until it finds a match or reaches the 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visits for a linear search of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verage search visits n/2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maximum visits is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ar search locates a value in an array in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linsearch/LinearSearche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0" y="91440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class for executing linear searches through an a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the LinearSear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Array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n array of inte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er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n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= anArr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linsearch/LinearSearche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0" y="93672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Finds a value in an array, using the linear 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v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value to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index at which the value occurs, or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if it does not occur in th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length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a[i] == 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electionSor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914400"/>
            <a:ext cx="914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orts the array managed by this selection so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length -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Pos = minimumPosition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ap(minPos, 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linsearch/LinearSearchDemo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91440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the linear search 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ArrayUtil.randomIntArray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Arrays.toString(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nearSearcher search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er(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nner i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3"/>
          <p:cNvSpPr/>
          <p:nvPr/>
        </p:nvSpPr>
        <p:spPr>
          <a:xfrm>
            <a:off x="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linsearch/LinearSearchDemo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99684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!d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 number to search for, -1 to quit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i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n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 = searcher.search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Found in position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o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0" y="493560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Program Ru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[46, 99, 45, 57, 64, 95, 81, 69, 11, 97, 6, 85, 61, 88, 29, 65, 83, 88, 45, 88] </a:t>
            </a:r>
            <a:br>
              <a:rPr sz="1400"/>
            </a:b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Enter number to search for, -1 to quit: </a:t>
            </a:r>
            <a:r>
              <a:rPr b="0" lang="en-US" sz="1400" spc="-1" strike="noStrike">
                <a:solidFill>
                  <a:srgbClr val="0057c1"/>
                </a:solidFill>
                <a:latin typeface="Courier New"/>
              </a:rPr>
              <a:t>11 </a:t>
            </a:r>
            <a:br>
              <a:rPr sz="1400"/>
            </a:br>
            <a:r>
              <a:rPr b="0" lang="en-US" sz="1400" spc="-1" strike="noStrike">
                <a:solidFill>
                  <a:srgbClr val="6e7069"/>
                </a:solidFill>
                <a:latin typeface="Courier New"/>
              </a:rPr>
              <a:t>Found in position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0" y="914400"/>
            <a:ext cx="9144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need to look through 1,000,000 records to find a telephone number. How many records do you expect to search before finding the numb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verage, you’d make 500,000 comparis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’t you use a “for each” loop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(i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eleme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)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he index at which the match occurs, not the data stored at that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inary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0" y="91440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s a value in a sorted array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termining whether the value occurs in the first or second ha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n repeating the search in one of the ha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inary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882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arch 15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≠ 17: We don’t have a m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7" descr="binsearch"/>
          <p:cNvPicPr/>
          <p:nvPr/>
        </p:nvPicPr>
        <p:blipFill>
          <a:blip r:embed="rId1"/>
          <a:stretch/>
        </p:blipFill>
        <p:spPr>
          <a:xfrm>
            <a:off x="301680" y="1295280"/>
            <a:ext cx="31320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binsearch/BinarySearche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0" y="91440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class for executing binary searches through an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BinarySearc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Array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 sorted array of inte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er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n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= an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731520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binsearch/BinarySearche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101124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Finds a value in a sorted array, using th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earch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v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value to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index at which the value occurs, or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if it does not occur in th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 = a.length -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low &lt;= hig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 = (low + high) /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ff = a[mid] - 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diff =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[mid] ==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diff &lt;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[mid] &lt; 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 = mid +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 = mid -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inary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0" y="914400"/>
            <a:ext cx="9144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number of visits to search a sorted array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visit one element (the middle element) then search either the left or right subar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us: T(n) = T(n/2) +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, then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=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4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ing into the original equation: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4)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eneralizes to: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inary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0" y="914400"/>
            <a:ext cx="91440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wer of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: T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 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search is an O(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electionSor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93492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Finds the smallest element in a tail range of the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from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first position in a to com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position of the smallest element i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range a[from] . . . a[a.length -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Position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Pos = fr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from +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length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a[i] &lt; a[minPos]) minPos =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Po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waps two entries of the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i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first position to sw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j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second position to sw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,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 = a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i] = a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j] = 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arching a Sorted Array in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0" y="914400"/>
            <a:ext cx="91440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ontains a static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returns ei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ndex of the element, if element is f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-k - 1 where k is the position before which the element should be inser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int[] a = { 1, 4, 9 }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int v = 7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int pos = Arrays.binarySearch(a, v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Returns -3; v should be inserted before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pos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0" y="914400"/>
            <a:ext cx="91440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need to look through a sorted array with 1,000,000 elements to find a value. Using the binary search algorithm, how many records do you expect to search before finding the valu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would search about 20. (The binary log of 1,024 is 10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0" y="9144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useful tha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.binarySearch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ndicates the position where a missing element should be inser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you know where to insert it so that the array stays sorted, and you can keep using binar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0" y="9144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.binarySea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 and not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dicate that a value is not present and should be inserted before pos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wise, you would not know whether a value is present when the method returns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rting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0" y="9144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ontains static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ort an array of integ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int[] a = ... ;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rrays.sort(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uses the Quicksort algorithm (see Special Topic 14.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rting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0" y="914400"/>
            <a:ext cx="91440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.s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s objects of classes that implem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interface Comparabl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compareTo(Object otherObject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.compareTo(b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negative number if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ould come before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 if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e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ositive number otherw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rting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0" y="914400"/>
            <a:ext cx="91440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lasses in Java (e.g.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mplem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mplem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for your own class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lass Coin implements Comparabl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ublic int compareTo(Object otherObjec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Coin other = (Coin)otherObject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value &lt; other.value) return -1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value == other.value) return 0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turn 1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0" y="914400"/>
            <a:ext cx="914400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lementation must define a total ordering relation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symmet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.compareTo(b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b.compareTo(a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x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.compareTo(a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.compareTo(b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b.compareTo(c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a.compareTo(c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rting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0" y="914400"/>
            <a:ext cx="9144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r class implement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mply 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.s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oin[] coins = new Coin[n]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Add coins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rrays.sort(coins);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objects are stored in a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ollections.sort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rrayList&lt;Coin&gt; coins = new ArrayList&lt;Coin&gt;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Add coins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ollections.sort(coins);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llections.s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merge sort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0" y="914400"/>
            <a:ext cx="9144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’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rrays.s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ort an array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does not 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SelectionSortDemo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91584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the selection sort algorithm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sorting an array that is filled with random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Sort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ArrayUtil.randomIntArray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Arrays.toString(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Sorter sort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Sorter(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rter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Arrays.toString(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4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0" y="9144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eps would you need to take to sort an array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 by increasing bala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needs to 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. It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must compare the bank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4/selsort/ArrayUtil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0" y="914400"/>
            <a:ext cx="9144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Rand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lass contains utility methods for array manip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generato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reates an array filled with random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length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length of th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number of possible random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n array filled with length numbers betw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0 and n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randomIntArray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,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length]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length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[i] = generator.nextInt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28:29Z</dcterms:created>
  <dc:creator>Bill</dc:creator>
  <dc:description/>
  <dc:language>en-US</dc:language>
  <cp:lastModifiedBy>Rick Giles</cp:lastModifiedBy>
  <dcterms:modified xsi:type="dcterms:W3CDTF">2009-11-16T13:43:53Z</dcterms:modified>
  <cp:revision>123</cp:revision>
  <dc:subject/>
  <dc:title>Slide 1</dc:title>
</cp:coreProperties>
</file>