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  <p:sldId id="263" r:id="rId70"/>
    <p:sldId id="264" r:id="rId71"/>
    <p:sldId id="265" r:id="rId72"/>
    <p:sldId id="266" r:id="rId73"/>
    <p:sldId id="267" r:id="rId74"/>
    <p:sldId id="268" r:id="rId75"/>
    <p:sldId id="269" r:id="rId76"/>
    <p:sldId id="270" r:id="rId77"/>
    <p:sldId id="271" r:id="rId78"/>
    <p:sldId id="272" r:id="rId79"/>
    <p:sldId id="273" r:id="rId80"/>
    <p:sldId id="274" r:id="rId81"/>
    <p:sldId id="275" r:id="rId82"/>
    <p:sldId id="276" r:id="rId83"/>
    <p:sldId id="277" r:id="rId84"/>
    <p:sldId id="278" r:id="rId85"/>
    <p:sldId id="279" r:id="rId86"/>
    <p:sldId id="280" r:id="rId87"/>
    <p:sldId id="281" r:id="rId88"/>
    <p:sldId id="282" r:id="rId89"/>
    <p:sldId id="283" r:id="rId90"/>
    <p:sldId id="284" r:id="rId91"/>
    <p:sldId id="285" r:id="rId92"/>
    <p:sldId id="286" r:id="rId93"/>
    <p:sldId id="287" r:id="rId94"/>
    <p:sldId id="288" r:id="rId95"/>
    <p:sldId id="289" r:id="rId96"/>
    <p:sldId id="290" r:id="rId97"/>
    <p:sldId id="291" r:id="rId98"/>
    <p:sldId id="292" r:id="rId99"/>
    <p:sldId id="293" r:id="rId100"/>
    <p:sldId id="294" r:id="rId101"/>
    <p:sldId id="295" r:id="rId102"/>
    <p:sldId id="296" r:id="rId103"/>
    <p:sldId id="297" r:id="rId104"/>
    <p:sldId id="298" r:id="rId105"/>
    <p:sldId id="299" r:id="rId106"/>
    <p:sldId id="300" r:id="rId107"/>
    <p:sldId id="301" r:id="rId108"/>
    <p:sldId id="302" r:id="rId109"/>
    <p:sldId id="303" r:id="rId110"/>
    <p:sldId id="304" r:id="rId111"/>
    <p:sldId id="305" r:id="rId112"/>
    <p:sldId id="306" r:id="rId113"/>
    <p:sldId id="307" r:id="rId114"/>
    <p:sldId id="308" r:id="rId115"/>
    <p:sldId id="309" r:id="rId116"/>
    <p:sldId id="310" r:id="rId117"/>
    <p:sldId id="311" r:id="rId118"/>
    <p:sldId id="312" r:id="rId119"/>
    <p:sldId id="313" r:id="rId120"/>
    <p:sldId id="314" r:id="rId121"/>
    <p:sldId id="315" r:id="rId122"/>
    <p:sldId id="316" r:id="rId123"/>
    <p:sldId id="317" r:id="rId124"/>
    <p:sldId id="318" r:id="rId125"/>
    <p:sldId id="319" r:id="rId126"/>
    <p:sldId id="320" r:id="rId127"/>
    <p:sldId id="321" r:id="rId128"/>
    <p:sldId id="322" r:id="rId129"/>
    <p:sldId id="323" r:id="rId130"/>
    <p:sldId id="324" r:id="rId131"/>
    <p:sldId id="325" r:id="rId132"/>
    <p:sldId id="326" r:id="rId133"/>
    <p:sldId id="327" r:id="rId134"/>
    <p:sldId id="328" r:id="rId135"/>
    <p:sldId id="329" r:id="rId136"/>
    <p:sldId id="330" r:id="rId137"/>
    <p:sldId id="331" r:id="rId138"/>
    <p:sldId id="332" r:id="rId139"/>
    <p:sldId id="333" r:id="rId140"/>
    <p:sldId id="334" r:id="rId141"/>
    <p:sldId id="335" r:id="rId142"/>
    <p:sldId id="336" r:id="rId143"/>
    <p:sldId id="337" r:id="rId144"/>
    <p:sldId id="338" r:id="rId145"/>
    <p:sldId id="339" r:id="rId146"/>
    <p:sldId id="340" r:id="rId147"/>
    <p:sldId id="341" r:id="rId148"/>
    <p:sldId id="342" r:id="rId149"/>
    <p:sldId id="343" r:id="rId150"/>
    <p:sldId id="344" r:id="rId151"/>
    <p:sldId id="345" r:id="rId152"/>
    <p:sldId id="346" r:id="rId153"/>
    <p:sldId id="347" r:id="rId154"/>
    <p:sldId id="348" r:id="rId155"/>
    <p:sldId id="349" r:id="rId156"/>
    <p:sldId id="350" r:id="rId157"/>
    <p:sldId id="351" r:id="rId158"/>
    <p:sldId id="352" r:id="rId159"/>
    <p:sldId id="353" r:id="rId160"/>
    <p:sldId id="354" r:id="rId161"/>
    <p:sldId id="355" r:id="rId162"/>
    <p:sldId id="356" r:id="rId163"/>
    <p:sldId id="357" r:id="rId164"/>
    <p:sldId id="358" r:id="rId165"/>
    <p:sldId id="359" r:id="rId166"/>
    <p:sldId id="360" r:id="rId167"/>
    <p:sldId id="361" r:id="rId168"/>
    <p:sldId id="362" r:id="rId169"/>
    <p:sldId id="363" r:id="rId170"/>
    <p:sldId id="364" r:id="rId171"/>
    <p:sldId id="365" r:id="rId172"/>
    <p:sldId id="366" r:id="rId173"/>
    <p:sldId id="367" r:id="rId1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slide" Target="slides/slide8.xml"/><Relationship Id="rId71" Type="http://schemas.openxmlformats.org/officeDocument/2006/relationships/slide" Target="slides/slide9.xml"/><Relationship Id="rId72" Type="http://schemas.openxmlformats.org/officeDocument/2006/relationships/slide" Target="slides/slide10.xml"/><Relationship Id="rId73" Type="http://schemas.openxmlformats.org/officeDocument/2006/relationships/slide" Target="slides/slide11.xml"/><Relationship Id="rId74" Type="http://schemas.openxmlformats.org/officeDocument/2006/relationships/slide" Target="slides/slide12.xml"/><Relationship Id="rId75" Type="http://schemas.openxmlformats.org/officeDocument/2006/relationships/slide" Target="slides/slide13.xml"/><Relationship Id="rId76" Type="http://schemas.openxmlformats.org/officeDocument/2006/relationships/slide" Target="slides/slide14.xml"/><Relationship Id="rId77" Type="http://schemas.openxmlformats.org/officeDocument/2006/relationships/slide" Target="slides/slide15.xml"/><Relationship Id="rId78" Type="http://schemas.openxmlformats.org/officeDocument/2006/relationships/slide" Target="slides/slide16.xml"/><Relationship Id="rId79" Type="http://schemas.openxmlformats.org/officeDocument/2006/relationships/slide" Target="slides/slide17.xml"/><Relationship Id="rId80" Type="http://schemas.openxmlformats.org/officeDocument/2006/relationships/slide" Target="slides/slide18.xml"/><Relationship Id="rId81" Type="http://schemas.openxmlformats.org/officeDocument/2006/relationships/slide" Target="slides/slide19.xml"/><Relationship Id="rId82" Type="http://schemas.openxmlformats.org/officeDocument/2006/relationships/slide" Target="slides/slide20.xml"/><Relationship Id="rId83" Type="http://schemas.openxmlformats.org/officeDocument/2006/relationships/slide" Target="slides/slide21.xml"/><Relationship Id="rId84" Type="http://schemas.openxmlformats.org/officeDocument/2006/relationships/slide" Target="slides/slide22.xml"/><Relationship Id="rId85" Type="http://schemas.openxmlformats.org/officeDocument/2006/relationships/slide" Target="slides/slide23.xml"/><Relationship Id="rId86" Type="http://schemas.openxmlformats.org/officeDocument/2006/relationships/slide" Target="slides/slide24.xml"/><Relationship Id="rId87" Type="http://schemas.openxmlformats.org/officeDocument/2006/relationships/slide" Target="slides/slide25.xml"/><Relationship Id="rId88" Type="http://schemas.openxmlformats.org/officeDocument/2006/relationships/slide" Target="slides/slide26.xml"/><Relationship Id="rId89" Type="http://schemas.openxmlformats.org/officeDocument/2006/relationships/slide" Target="slides/slide27.xml"/><Relationship Id="rId90" Type="http://schemas.openxmlformats.org/officeDocument/2006/relationships/slide" Target="slides/slide28.xml"/><Relationship Id="rId91" Type="http://schemas.openxmlformats.org/officeDocument/2006/relationships/slide" Target="slides/slide29.xml"/><Relationship Id="rId92" Type="http://schemas.openxmlformats.org/officeDocument/2006/relationships/slide" Target="slides/slide30.xml"/><Relationship Id="rId93" Type="http://schemas.openxmlformats.org/officeDocument/2006/relationships/slide" Target="slides/slide31.xml"/><Relationship Id="rId94" Type="http://schemas.openxmlformats.org/officeDocument/2006/relationships/slide" Target="slides/slide32.xml"/><Relationship Id="rId95" Type="http://schemas.openxmlformats.org/officeDocument/2006/relationships/slide" Target="slides/slide33.xml"/><Relationship Id="rId96" Type="http://schemas.openxmlformats.org/officeDocument/2006/relationships/slide" Target="slides/slide34.xml"/><Relationship Id="rId97" Type="http://schemas.openxmlformats.org/officeDocument/2006/relationships/slide" Target="slides/slide35.xml"/><Relationship Id="rId98" Type="http://schemas.openxmlformats.org/officeDocument/2006/relationships/slide" Target="slides/slide36.xml"/><Relationship Id="rId99" Type="http://schemas.openxmlformats.org/officeDocument/2006/relationships/slide" Target="slides/slide37.xml"/><Relationship Id="rId100" Type="http://schemas.openxmlformats.org/officeDocument/2006/relationships/slide" Target="slides/slide38.xml"/><Relationship Id="rId101" Type="http://schemas.openxmlformats.org/officeDocument/2006/relationships/slide" Target="slides/slide39.xml"/><Relationship Id="rId102" Type="http://schemas.openxmlformats.org/officeDocument/2006/relationships/slide" Target="slides/slide40.xml"/><Relationship Id="rId103" Type="http://schemas.openxmlformats.org/officeDocument/2006/relationships/slide" Target="slides/slide41.xml"/><Relationship Id="rId104" Type="http://schemas.openxmlformats.org/officeDocument/2006/relationships/slide" Target="slides/slide42.xml"/><Relationship Id="rId105" Type="http://schemas.openxmlformats.org/officeDocument/2006/relationships/slide" Target="slides/slide43.xml"/><Relationship Id="rId106" Type="http://schemas.openxmlformats.org/officeDocument/2006/relationships/slide" Target="slides/slide44.xml"/><Relationship Id="rId107" Type="http://schemas.openxmlformats.org/officeDocument/2006/relationships/slide" Target="slides/slide45.xml"/><Relationship Id="rId108" Type="http://schemas.openxmlformats.org/officeDocument/2006/relationships/slide" Target="slides/slide46.xml"/><Relationship Id="rId109" Type="http://schemas.openxmlformats.org/officeDocument/2006/relationships/slide" Target="slides/slide47.xml"/><Relationship Id="rId110" Type="http://schemas.openxmlformats.org/officeDocument/2006/relationships/slide" Target="slides/slide48.xml"/><Relationship Id="rId111" Type="http://schemas.openxmlformats.org/officeDocument/2006/relationships/slide" Target="slides/slide49.xml"/><Relationship Id="rId112" Type="http://schemas.openxmlformats.org/officeDocument/2006/relationships/slide" Target="slides/slide50.xml"/><Relationship Id="rId113" Type="http://schemas.openxmlformats.org/officeDocument/2006/relationships/slide" Target="slides/slide51.xml"/><Relationship Id="rId114" Type="http://schemas.openxmlformats.org/officeDocument/2006/relationships/slide" Target="slides/slide52.xml"/><Relationship Id="rId115" Type="http://schemas.openxmlformats.org/officeDocument/2006/relationships/slide" Target="slides/slide53.xml"/><Relationship Id="rId116" Type="http://schemas.openxmlformats.org/officeDocument/2006/relationships/slide" Target="slides/slide54.xml"/><Relationship Id="rId117" Type="http://schemas.openxmlformats.org/officeDocument/2006/relationships/slide" Target="slides/slide55.xml"/><Relationship Id="rId118" Type="http://schemas.openxmlformats.org/officeDocument/2006/relationships/slide" Target="slides/slide56.xml"/><Relationship Id="rId119" Type="http://schemas.openxmlformats.org/officeDocument/2006/relationships/slide" Target="slides/slide57.xml"/><Relationship Id="rId120" Type="http://schemas.openxmlformats.org/officeDocument/2006/relationships/slide" Target="slides/slide58.xml"/><Relationship Id="rId121" Type="http://schemas.openxmlformats.org/officeDocument/2006/relationships/slide" Target="slides/slide59.xml"/><Relationship Id="rId122" Type="http://schemas.openxmlformats.org/officeDocument/2006/relationships/slide" Target="slides/slide60.xml"/><Relationship Id="rId123" Type="http://schemas.openxmlformats.org/officeDocument/2006/relationships/slide" Target="slides/slide61.xml"/><Relationship Id="rId124" Type="http://schemas.openxmlformats.org/officeDocument/2006/relationships/slide" Target="slides/slide62.xml"/><Relationship Id="rId125" Type="http://schemas.openxmlformats.org/officeDocument/2006/relationships/slide" Target="slides/slide63.xml"/><Relationship Id="rId126" Type="http://schemas.openxmlformats.org/officeDocument/2006/relationships/slide" Target="slides/slide64.xml"/><Relationship Id="rId127" Type="http://schemas.openxmlformats.org/officeDocument/2006/relationships/slide" Target="slides/slide65.xml"/><Relationship Id="rId128" Type="http://schemas.openxmlformats.org/officeDocument/2006/relationships/slide" Target="slides/slide66.xml"/><Relationship Id="rId129" Type="http://schemas.openxmlformats.org/officeDocument/2006/relationships/slide" Target="slides/slide67.xml"/><Relationship Id="rId130" Type="http://schemas.openxmlformats.org/officeDocument/2006/relationships/slide" Target="slides/slide68.xml"/><Relationship Id="rId131" Type="http://schemas.openxmlformats.org/officeDocument/2006/relationships/slide" Target="slides/slide69.xml"/><Relationship Id="rId132" Type="http://schemas.openxmlformats.org/officeDocument/2006/relationships/slide" Target="slides/slide70.xml"/><Relationship Id="rId133" Type="http://schemas.openxmlformats.org/officeDocument/2006/relationships/slide" Target="slides/slide71.xml"/><Relationship Id="rId134" Type="http://schemas.openxmlformats.org/officeDocument/2006/relationships/slide" Target="slides/slide72.xml"/><Relationship Id="rId135" Type="http://schemas.openxmlformats.org/officeDocument/2006/relationships/slide" Target="slides/slide73.xml"/><Relationship Id="rId136" Type="http://schemas.openxmlformats.org/officeDocument/2006/relationships/slide" Target="slides/slide74.xml"/><Relationship Id="rId137" Type="http://schemas.openxmlformats.org/officeDocument/2006/relationships/slide" Target="slides/slide75.xml"/><Relationship Id="rId138" Type="http://schemas.openxmlformats.org/officeDocument/2006/relationships/slide" Target="slides/slide76.xml"/><Relationship Id="rId139" Type="http://schemas.openxmlformats.org/officeDocument/2006/relationships/slide" Target="slides/slide77.xml"/><Relationship Id="rId140" Type="http://schemas.openxmlformats.org/officeDocument/2006/relationships/slide" Target="slides/slide78.xml"/><Relationship Id="rId141" Type="http://schemas.openxmlformats.org/officeDocument/2006/relationships/slide" Target="slides/slide79.xml"/><Relationship Id="rId142" Type="http://schemas.openxmlformats.org/officeDocument/2006/relationships/slide" Target="slides/slide80.xml"/><Relationship Id="rId143" Type="http://schemas.openxmlformats.org/officeDocument/2006/relationships/slide" Target="slides/slide81.xml"/><Relationship Id="rId144" Type="http://schemas.openxmlformats.org/officeDocument/2006/relationships/slide" Target="slides/slide82.xml"/><Relationship Id="rId145" Type="http://schemas.openxmlformats.org/officeDocument/2006/relationships/slide" Target="slides/slide83.xml"/><Relationship Id="rId146" Type="http://schemas.openxmlformats.org/officeDocument/2006/relationships/slide" Target="slides/slide84.xml"/><Relationship Id="rId147" Type="http://schemas.openxmlformats.org/officeDocument/2006/relationships/slide" Target="slides/slide85.xml"/><Relationship Id="rId148" Type="http://schemas.openxmlformats.org/officeDocument/2006/relationships/slide" Target="slides/slide86.xml"/><Relationship Id="rId149" Type="http://schemas.openxmlformats.org/officeDocument/2006/relationships/slide" Target="slides/slide87.xml"/><Relationship Id="rId150" Type="http://schemas.openxmlformats.org/officeDocument/2006/relationships/slide" Target="slides/slide88.xml"/><Relationship Id="rId151" Type="http://schemas.openxmlformats.org/officeDocument/2006/relationships/slide" Target="slides/slide89.xml"/><Relationship Id="rId152" Type="http://schemas.openxmlformats.org/officeDocument/2006/relationships/slide" Target="slides/slide90.xml"/><Relationship Id="rId153" Type="http://schemas.openxmlformats.org/officeDocument/2006/relationships/slide" Target="slides/slide91.xml"/><Relationship Id="rId154" Type="http://schemas.openxmlformats.org/officeDocument/2006/relationships/slide" Target="slides/slide92.xml"/><Relationship Id="rId155" Type="http://schemas.openxmlformats.org/officeDocument/2006/relationships/slide" Target="slides/slide93.xml"/><Relationship Id="rId156" Type="http://schemas.openxmlformats.org/officeDocument/2006/relationships/slide" Target="slides/slide94.xml"/><Relationship Id="rId157" Type="http://schemas.openxmlformats.org/officeDocument/2006/relationships/slide" Target="slides/slide95.xml"/><Relationship Id="rId158" Type="http://schemas.openxmlformats.org/officeDocument/2006/relationships/slide" Target="slides/slide96.xml"/><Relationship Id="rId159" Type="http://schemas.openxmlformats.org/officeDocument/2006/relationships/slide" Target="slides/slide97.xml"/><Relationship Id="rId160" Type="http://schemas.openxmlformats.org/officeDocument/2006/relationships/slide" Target="slides/slide98.xml"/><Relationship Id="rId161" Type="http://schemas.openxmlformats.org/officeDocument/2006/relationships/slide" Target="slides/slide99.xml"/><Relationship Id="rId162" Type="http://schemas.openxmlformats.org/officeDocument/2006/relationships/slide" Target="slides/slide100.xml"/><Relationship Id="rId163" Type="http://schemas.openxmlformats.org/officeDocument/2006/relationships/slide" Target="slides/slide101.xml"/><Relationship Id="rId164" Type="http://schemas.openxmlformats.org/officeDocument/2006/relationships/slide" Target="slides/slide102.xml"/><Relationship Id="rId165" Type="http://schemas.openxmlformats.org/officeDocument/2006/relationships/slide" Target="slides/slide103.xml"/><Relationship Id="rId166" Type="http://schemas.openxmlformats.org/officeDocument/2006/relationships/slide" Target="slides/slide104.xml"/><Relationship Id="rId167" Type="http://schemas.openxmlformats.org/officeDocument/2006/relationships/slide" Target="slides/slide105.xml"/><Relationship Id="rId168" Type="http://schemas.openxmlformats.org/officeDocument/2006/relationships/slide" Target="slides/slide106.xml"/><Relationship Id="rId169" Type="http://schemas.openxmlformats.org/officeDocument/2006/relationships/slide" Target="slides/slide107.xml"/><Relationship Id="rId170" Type="http://schemas.openxmlformats.org/officeDocument/2006/relationships/slide" Target="slides/slide108.xml"/><Relationship Id="rId171" Type="http://schemas.openxmlformats.org/officeDocument/2006/relationships/slide" Target="slides/slide109.xml"/><Relationship Id="rId172" Type="http://schemas.openxmlformats.org/officeDocument/2006/relationships/slide" Target="slides/slide110.xml"/><Relationship Id="rId173" Type="http://schemas.openxmlformats.org/officeDocument/2006/relationships/slide" Target="slides/slide111.xml"/><Relationship Id="rId174" Type="http://schemas.openxmlformats.org/officeDocument/2006/relationships/slide" Target="slides/slide112.xml"/><Relationship Id="rId1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78A3E-DC86-4264-A6F4-5FB774C0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46853-E890-4208-AEB9-BCAB0D2C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E82DC-E3B0-441A-8997-4415258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51E6A-EC98-45DC-AC99-21B12054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4A91A-7BE1-4036-9FD2-3C5B721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7D110-8D5D-4DA9-82BE-96D62317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E9807-F589-47E7-9767-8E1931F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6DECD-16C3-49EB-870F-B58ECFE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60354-2205-4384-8DD0-9D7A784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01C28-A2DE-45F2-8AE2-9163101C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C99B7-8283-477F-9155-018AADC6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1D790-D50B-4A84-820C-E090C69E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12B794-8778-43EA-9BBF-DB99BAF3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E851AA-EE43-4E44-BDEF-A1A5F3E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9EAD66-E9E4-4601-902F-EFF7ECC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573F88-129F-4519-A8ED-3CE5C60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A4D540-CE38-4298-9D0D-CAF96C57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9F93B0-A6A8-4D50-85EF-4D8A770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67D23D-77B0-432D-8D9D-A1A084F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46002C-457E-44C6-A825-8C69925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DEB9FC-BB05-43B0-A64E-1F772F53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1E2148-DD24-4CE3-9654-406FA59E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55D38C-CDEA-40B2-85DA-25B82931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853191-668B-4D9D-B973-DAAD3B5C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79DC16-737E-4FF7-A870-230F327A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952CA8-2302-4FC1-BDE0-F505241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A10979-4C1D-43A4-BBCB-A8D174A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58946A-A52B-45BC-BDF0-ED860D5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3307EC-98BB-448D-9288-3307050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8919A4-1EAE-49F3-A34C-4C1B0EE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692428-2786-44DD-A679-0551CE9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7FBC46-C029-4283-8B6E-2E9CA49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A06655-18B1-4079-9739-0A9E93B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03C2-60D1-440B-8FF3-71F45EB3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2FE7EC-4A31-43D7-B9CA-D8A3F80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663FC9-4369-4B0F-8209-41963725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CFA504-5544-4F1D-A4FF-DF606DB0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AB5947-E09A-4017-981D-F4CAEA72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19022C-17E6-497B-944B-959A5D82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D28C3C-1AFF-42BD-8850-D5CE76F1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A789CD-8A9B-44D4-AF30-4C9FFCBB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713488-0FA2-4D56-A1D4-981A568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562A8D-0EF6-47A8-AA74-21256726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BA53E2-ED0F-4E84-AFED-DEF7619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C114-EE48-4DE6-BDC8-5B96F70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E7A175-3994-4D2A-96DA-2DDB6DB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121A0E-643B-445E-838E-84A8E73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AC635A-E292-4A2F-B1A8-7F4DBDA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5E6C2F-7F2E-414A-9E64-E7350760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994D74-B2B9-43CF-BA61-FFA5016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306F11-B273-44F0-A1DD-1D388B06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F2A41F-A679-4A91-8584-5C5D6CD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28488F-8BA6-497D-A08E-F29E907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52ECE7-D28B-4F79-B8CC-24E5244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6F699F-0479-47B9-B092-DF1B18C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5C6-23D5-49D1-B9DD-68067956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F3C459-025F-44D9-8FC5-3037E8B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0A3895-5058-4BDD-8D0D-061307A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475163-BBFD-401E-9E56-C056E4A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695DBB-DC40-4A14-80A3-487B17C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D2AAF6-5C5E-46D0-85F1-65249A96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9A1679-853C-4447-AA82-8911CB1D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F15691-60C5-447B-9FEE-3A55785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9391F0-A9A8-4A94-9D4E-AB0DEAED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918A90-27BF-4A9D-A651-A490FA0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C6C261-2B3C-4D20-BB65-7CA1A99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F1A4-AF1F-4818-B12A-6BB86B8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C288D0-563C-48EE-800D-7B2336DA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B83AF8-92B7-4A87-A26C-C790098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45E221-10B0-4E9F-A2E3-11CA1F6D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9F81E6-D36E-4CCD-807C-0788298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5743BA-00D9-43BC-9163-47D49AB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596FB3-4C92-4F55-887D-CB5FF1B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DBCA7A-B7DC-49DF-BFCD-778961C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F12488-F3CB-4CAC-B46D-5E6BBF5D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1E4BA1-99D4-4CE5-95E6-09300883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517D09-CEDC-4EDC-B3FF-CC0CC610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D77-ABE6-48A9-9CBB-F9C2773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FA3CAB-3434-49EE-BA68-5182BDDB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505319-B37F-4877-BC82-BAA9C908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2206FC-D4BE-464E-BE40-15E16BF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F5BACC-5FC4-436A-9836-EB3F5CD9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B7272B-7644-42C8-A380-325C22A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106A63-6CC7-47F0-9FAF-20DEC26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F8F53A-CF8A-4719-867A-8721F9D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6DF7CC-B5F9-47E7-83ED-60D067C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9AFC69-841A-4D59-9A5D-DC953A3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3CD374-1B2D-4AD8-B139-676CA4B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9D97-811F-4249-83EE-C8598531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DCE695-7D4A-450F-9985-DCE3AEA5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0874A9-9671-48DD-918D-6AE5713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D3EDA1-A84C-4B98-BB7D-48CAC669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F3729F-BD11-4C14-A520-4B2A057F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95AF41-1832-4875-A37F-F66A0B5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1DBF88-AF38-405E-B6F6-994D2AC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6176A7-82D4-424D-A90F-2E735480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C477D9-D1C2-4274-862B-F20ECCF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94F9F4-9348-402A-B7F4-3E83696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CD3FFB-3A59-4109-AFA4-1994EAE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748B-D07D-4FC3-A371-83E3749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7B1609-F538-406C-A37F-DF7138C5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92ACE7-B395-4381-8571-CB9B5F94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FC1835-B81E-4E6F-B764-82F3C349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871B24-7C6A-4B98-937F-2483734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98BCF3-E8B7-4076-ADE6-CD8C5A40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10C156-9A15-4742-8E2F-1AC8B03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3DFB38-9AF2-4F77-9518-E7CCDD87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32D5C1-D7AF-4E3B-AC96-4B076BC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D9D529-8994-4675-801F-2280E2E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BA9883-2E33-43E4-923A-B5A44CF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2F6-1272-49C5-BD3A-769DF0D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70DC20-F788-4000-965B-88A2B30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E6864E-328E-47E2-B62D-4C7247C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BE8D13-AAB7-4B15-9D89-9783FF6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09FF73-95AD-4B58-9FE7-AF3BE30F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0CCFF5-9EEF-4DDE-92FE-36857276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6767-E551-4BAF-B854-5A74E9F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1D0-2E4B-48B4-B2CC-6E0DD62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ECF0-A279-4E1D-8E4D-83BD913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191D-F49C-46D9-8093-CF23B8D2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73152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1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ftr" idx="2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ftr" idx="2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ftr" idx="3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ftr" idx="3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667-94B6-46A0-8CF6-2F36F2DE07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171-A295-464C-9473-3652FBF2A5D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8AA-6DDB-45A3-B405-E2F6C81CCA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96A7-798F-4398-B6A2-E95C9C944E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B7C-E155-4EA4-8CA5-557C91679CD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426D-277B-41BD-BD1E-29601B0CCF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8B9-A103-4063-AAE8-35EC54592A2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48AF-4603-499F-888E-BDD1380D9C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81F-107C-40A2-8D2E-B8C7818ECA4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246-606E-4B59-9B3E-9884B52DEC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E40-6160-4F3C-8C31-DA698820F05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091-E011-46AE-A6D5-F9BB0B72B7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DE0E-DA5A-40EF-A1E4-54CCD0EAE78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4B1F-7164-40FC-9A63-993161E182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59E-D3CA-4B40-8F11-F5FD85F97D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F7B4-0F7C-4F77-BB41-4585F06AB3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80FF-430D-42F5-A1AC-40617E245C8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110D-C0AC-4A2A-8DB0-BE68543286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629-3F65-4B09-A0C3-03E823E6EAE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ftr" idx="6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ftr" idx="6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876-582B-47F2-94EB-E230FCC897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EB7F-73F3-4D71-A4C2-B7332161D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ftr" idx="6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ftr" idx="6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ftr" idx="6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ftr" idx="7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ftr" idx="7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ftr" idx="7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ftr" idx="76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ftr" idx="7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ftr" idx="8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ftr" idx="8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ftr" idx="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a7d9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8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dt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ftr" idx="8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ftr" idx="8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ftr" idx="8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ftr" idx="9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ftr" idx="9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ftr" idx="9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dt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ftr" idx="9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ftr" idx="9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ftr" idx="10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ddf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dt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 type="ftr" idx="10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ftr" idx="10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ftr" idx="10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dt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ftr" idx="10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ftr" idx="11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ftr" idx="11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dt" idx="1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ftr" idx="11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ftr" idx="117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ftr" idx="119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dt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 type="ftr" idx="121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ftr" idx="8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ftr" idx="123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ftr" idx="125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0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2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b3a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4"/>
          </p:nvPr>
        </p:nvSpPr>
        <p:spPr>
          <a:xfrm>
            <a:off x="4800240" y="63050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7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Text Box 3"/>
          <p:cNvSpPr/>
          <p:nvPr/>
        </p:nvSpPr>
        <p:spPr>
          <a:xfrm>
            <a:off x="182880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Interfaces and Poly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9" name="Picture 4" descr="bigjava4.jpg"/>
          <p:cNvPicPr/>
          <p:nvPr/>
        </p:nvPicPr>
        <p:blipFill>
          <a:blip r:embed="rId1"/>
          <a:stretch/>
        </p:blipFill>
        <p:spPr>
          <a:xfrm>
            <a:off x="0" y="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2440" name="Line 4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50760">
            <a:solidFill>
              <a:srgbClr val="c6e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3"/>
          <p:cNvSpPr/>
          <p:nvPr/>
        </p:nvSpPr>
        <p:spPr>
          <a:xfrm>
            <a:off x="0" y="915840"/>
            <a:ext cx="91440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terface type is similar to a class, but there are several important differen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methods in an interface type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they don’t have an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methods in an interface type are automatically 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nterface type does not have instance fie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faces vs.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Rectangle 3"/>
          <p:cNvSpPr/>
          <p:nvPr/>
        </p:nvSpPr>
        <p:spPr>
          <a:xfrm>
            <a:off x="0" y="106920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mouse listener to capture mouse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ouseListen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interface MouseListener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void mousePressed(MouseEvent event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alled when a mouse button has been pressed on a 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omponent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void mouseReleased(MouseEvent event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alled when a mouse button has been released on a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omponent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void mouseClicked(MouseEvent event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alled when the mouse has been clicked on a component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void mouseEntered(MouseEvent event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alled when the mouse enters a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void mouseExited(MouseEvent event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// Called when the mouse exits a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us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Rectangle 3"/>
          <p:cNvSpPr/>
          <p:nvPr/>
        </p:nvSpPr>
        <p:spPr>
          <a:xfrm>
            <a:off x="0" y="9075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6e7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Pre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Relea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lled when a mouse button is pressed or rel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Clic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button is pressed and released in quick succession, and mouse hasn’t m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Ent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Ex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use has entered or exited the component’s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us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3"/>
          <p:cNvSpPr/>
          <p:nvPr/>
        </p:nvSpPr>
        <p:spPr>
          <a:xfrm>
            <a:off x="0" y="1022400"/>
            <a:ext cx="91440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mouse listener to a component by calling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ddMouseListen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class MyMouseListener implements MouseListene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// Implements five methods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MouseListener listener = new MyMouseListener();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omponent.addMouseListener(listene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program: enhanc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user clicks on rectangle component, move th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us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Text Box 3"/>
          <p:cNvSpPr/>
          <p:nvPr/>
        </p:nvSpPr>
        <p:spPr>
          <a:xfrm>
            <a:off x="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Rectangle 4"/>
          <p:cNvSpPr/>
          <p:nvPr/>
        </p:nvSpPr>
        <p:spPr>
          <a:xfrm>
            <a:off x="0" y="930240"/>
            <a:ext cx="914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raphics2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Rectang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Compon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omponent displays a rectangle that can be mo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X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Y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WIDTH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HEIGH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bo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rectangle that the paintComponent method dr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BOX_X, BOX_Y, BOX_WIDTH, BOX_HEIGHT);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ouse/RectangleComponent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Text Box 5"/>
          <p:cNvSpPr/>
          <p:nvPr/>
        </p:nvSpPr>
        <p:spPr>
          <a:xfrm>
            <a:off x="7315200" y="6033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Rectangle 4"/>
          <p:cNvSpPr/>
          <p:nvPr/>
        </p:nvSpPr>
        <p:spPr>
          <a:xfrm>
            <a:off x="0" y="8701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Graphics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 = (Graphics2D) 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.draw(bo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Moves the rectangle to the given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x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x-position of the new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y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y-position of the new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To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setLocation(x, 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5"/>
          <p:cNvSpPr/>
          <p:nvPr/>
        </p:nvSpPr>
        <p:spPr>
          <a:xfrm>
            <a:off x="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ouse/RectangleCompone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Rectangle 3"/>
          <p:cNvSpPr/>
          <p:nvPr/>
        </p:nvSpPr>
        <p:spPr>
          <a:xfrm>
            <a:off x="0" y="920520"/>
            <a:ext cx="91440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pai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odify the shapes tha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paint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ox.setLocation(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repa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us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Rectangle 3"/>
          <p:cNvSpPr/>
          <p:nvPr/>
        </p:nvSpPr>
        <p:spPr>
          <a:xfrm>
            <a:off x="0" y="787680"/>
            <a:ext cx="9144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listener: if the mouse is pressed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s the rectangle to the mouse lo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class MousePressListener implements MouseListener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public void mousePressed(MouseEvent event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int x = event.getX(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int y = event.getY(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component.moveTo(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// Do-nothing methods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public void mouseReleased(MouseEvent event) {}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public void mouseClicked(MouseEvent event) {}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public void mouseEntered(MouseEvent event) {}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public void mouseExited(MouseEvent event) {}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ve methods of the interface must be implemented; unused methods can be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us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5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RectangleComponentViewer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gra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2" name="Picture 5" descr="rectangle.png"/>
          <p:cNvPicPr/>
          <p:nvPr/>
        </p:nvPicPr>
        <p:blipFill>
          <a:blip r:embed="rId1"/>
          <a:stretch/>
        </p:blipFill>
        <p:spPr>
          <a:xfrm>
            <a:off x="304920" y="106668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Rectangle 4"/>
          <p:cNvSpPr/>
          <p:nvPr/>
        </p:nvSpPr>
        <p:spPr>
          <a:xfrm>
            <a:off x="0" y="83808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MouseListe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MouseEv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isplays a Rectangle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4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 component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5"/>
          <p:cNvSpPr/>
          <p:nvPr/>
        </p:nvSpPr>
        <p:spPr>
          <a:xfrm>
            <a:off x="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ouse/RectangleComponentView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4"/>
          <p:cNvSpPr/>
          <p:nvPr/>
        </p:nvSpPr>
        <p:spPr>
          <a:xfrm>
            <a:off x="0" y="83808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dd mouse press listener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Listener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ed(MouseEvent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event.get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event.get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mponent.moveTo(x, 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Do-nothing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Released(MouseEvent event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Clicked(MouseEvent event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Entered(MouseEvent event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Exited(MouseEvent event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Listener listen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Listen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ponent.addMouseListener(liste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5"/>
          <p:cNvSpPr/>
          <p:nvPr/>
        </p:nvSpPr>
        <p:spPr>
          <a:xfrm>
            <a:off x="0" y="304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ouse/RectangleComponentView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3"/>
          <p:cNvSpPr/>
          <p:nvPr/>
        </p:nvSpPr>
        <p:spPr>
          <a:xfrm>
            <a:off x="0" y="917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ublic class DataSet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rivate double s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rivate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Measurable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rivate int count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...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ublic void add(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Measurable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x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sum = sum +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if (count == 0 || maximum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&lt;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   maximum = x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count++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ublic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Measurable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getMaximum(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return 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}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ener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et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r Measurab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Rectangle 4"/>
          <p:cNvSpPr/>
          <p:nvPr/>
        </p:nvSpPr>
        <p:spPr>
          <a:xfrm>
            <a:off x="0" y="91440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(compon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FRAME_WIDTH, FRAME_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5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ouse/RectangleComponentView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Rectangle 3"/>
          <p:cNvSpPr/>
          <p:nvPr/>
        </p:nvSpPr>
        <p:spPr>
          <a:xfrm>
            <a:off x="0" y="92412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veBy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laced with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v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cause you know the current mouse position, not the amount by which the mouse has mov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3"/>
          <p:cNvSpPr/>
          <p:nvPr/>
        </p:nvSpPr>
        <p:spPr>
          <a:xfrm>
            <a:off x="0" y="932040"/>
            <a:ext cx="9144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us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usePress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supply five metho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, which has five metho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Rectangle 3"/>
          <p:cNvSpPr/>
          <p:nvPr/>
        </p:nvSpPr>
        <p:spPr>
          <a:xfrm>
            <a:off x="0" y="945720"/>
            <a:ext cx="868680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implement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d word to indicate that a class implements an interface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class BankAccou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implements</a:t>
            </a:r>
            <a:r>
              <a:rPr b="0" lang="en-US" sz="2400" spc="-1" strike="noStrike">
                <a:solidFill>
                  <a:srgbClr val="0057c1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Measurable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public double getMeasure(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return balance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}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can implement more than one interface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must declare all the methods that are required by all the interfaces it imp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mplementing an Interfac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3"/>
          <p:cNvSpPr/>
          <p:nvPr/>
        </p:nvSpPr>
        <p:spPr>
          <a:xfrm>
            <a:off x="0" y="945720"/>
            <a:ext cx="868680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Coin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implements 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public double getMeasur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return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mplementing an Interfac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Rectangle 3"/>
          <p:cNvSpPr/>
          <p:nvPr/>
        </p:nvSpPr>
        <p:spPr>
          <a:xfrm>
            <a:off x="0" y="860760"/>
            <a:ext cx="868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vice type such as DataSet specifies an interface for participating in th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face types to make code more 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de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0" name="Picture 4" descr="mixer.png"/>
          <p:cNvPicPr/>
          <p:nvPr/>
        </p:nvPicPr>
        <p:blipFill>
          <a:blip r:embed="rId1"/>
          <a:stretch/>
        </p:blipFill>
        <p:spPr>
          <a:xfrm>
            <a:off x="304920" y="2362320"/>
            <a:ext cx="60195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4b95"/>
                </a:solidFill>
                <a:latin typeface="Arial"/>
              </a:rPr>
              <a:t>9.2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mplement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0760">
            <a:solidFill>
              <a:srgbClr val="004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3" name="Picture 4" descr="syntax_implementing_interface.png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3"/>
          <p:cNvSpPr/>
          <p:nvPr/>
        </p:nvSpPr>
        <p:spPr>
          <a:xfrm>
            <a:off x="0" y="994320"/>
            <a:ext cx="91440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can reduce the coupling between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no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s are tagged with a “stereotype” indicator «interface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otted arrow with a triangular tip denotes the “is-a” relationship between a class and an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otted line with an open v-shaped arrow tip denotes the “uses” relationship or dep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oup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</a:t>
            </a:r>
            <a:br>
              <a:rPr sz="2400"/>
            </a:b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Text Box 5"/>
          <p:cNvSpPr/>
          <p:nvPr/>
        </p:nvSpPr>
        <p:spPr>
          <a:xfrm>
            <a:off x="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M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agra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f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DataSet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6" name="Picture 6" descr="uml1.png"/>
          <p:cNvPicPr/>
          <p:nvPr/>
        </p:nvPicPr>
        <p:blipFill>
          <a:blip r:embed="rId1"/>
          <a:stretch/>
        </p:blipFill>
        <p:spPr>
          <a:xfrm>
            <a:off x="5486400" y="3429000"/>
            <a:ext cx="36576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Rectangle 5"/>
          <p:cNvSpPr/>
          <p:nvPr/>
        </p:nvSpPr>
        <p:spPr>
          <a:xfrm>
            <a:off x="0" y="87012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tests the DataSet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et bankData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2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Average 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ankData.getAverag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4000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asurable max = bankData.getMaxim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Highest 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ax.getMeasur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10000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et coinData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1/DataSetTest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5"/>
          <p:cNvSpPr/>
          <p:nvPr/>
        </p:nvSpPr>
        <p:spPr>
          <a:xfrm>
            <a:off x="0" y="89064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in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.2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quarter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in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.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dim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inData.add(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.0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nickel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Average coin valu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oinData.getAverag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0.133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coinData.getMaxim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Highest coin valu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ax.getMeasur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0.25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1/DataSetTes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3"/>
          <p:cNvSpPr/>
          <p:nvPr/>
        </p:nvSpPr>
        <p:spPr>
          <a:xfrm>
            <a:off x="0" y="912600"/>
            <a:ext cx="9144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verage balance: 4000.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400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Highest balance: 10000.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10000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verage coin value: 0.13333333333333333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0.133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Highest coin value: 0.25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Expected: 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1/DataSetTest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6"/>
          <p:cNvSpPr/>
          <p:nvPr/>
        </p:nvSpPr>
        <p:spPr>
          <a:xfrm>
            <a:off x="0" y="9010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declare and use interfa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concept of polymorph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reciate how interfaces can be used to decouple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how to implement helper classes as inner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17e"/>
                </a:solidFill>
                <a:latin typeface="Arial"/>
              </a:rPr>
              <a:t>G</a:t>
            </a:r>
            <a:r>
              <a:rPr b="1" lang="en-US" sz="1000" spc="-1" strike="noStrike">
                <a:solidFill>
                  <a:srgbClr val="52317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lement event listeners in graphical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apte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3"/>
          <p:cNvSpPr/>
          <p:nvPr/>
        </p:nvSpPr>
        <p:spPr>
          <a:xfrm>
            <a:off x="0" y="865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want to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to find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u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with the largest population. What condition mus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u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fulfil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 must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, and it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must return the pop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3"/>
          <p:cNvSpPr/>
          <p:nvPr/>
        </p:nvSpPr>
        <p:spPr>
          <a:xfrm>
            <a:off x="0" y="750600"/>
            <a:ext cx="91440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’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have a parameter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 doesn’t have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, and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invoke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3"/>
          <p:cNvSpPr/>
          <p:nvPr/>
        </p:nvSpPr>
        <p:spPr>
          <a:xfrm>
            <a:off x="0" y="677160"/>
            <a:ext cx="91440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from a class type to an interface type, provi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ass implements th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 account = new BankAccount(10000); </a:t>
            </a:r>
            <a:br>
              <a:rPr sz="2400"/>
            </a:b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Measurable x = account; // 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6e7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in dime = new Coin(0.1, "dime"); </a:t>
            </a:r>
            <a:br>
              <a:rPr sz="2400"/>
            </a:b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 Measurable x = dime; // Also 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vert between unrelated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 x = new Rectangle(5, 10, 20, 30); //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implem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Text Box 4"/>
          <p:cNvSpPr/>
          <p:nvPr/>
        </p:nvSpPr>
        <p:spPr>
          <a:xfrm>
            <a:off x="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nverting Between Class and Interfa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ables of Class and Interfa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1" name="Picture 5" descr="types.pn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3"/>
          <p:cNvSpPr/>
          <p:nvPr/>
        </p:nvSpPr>
        <p:spPr>
          <a:xfrm>
            <a:off x="0" y="965880"/>
            <a:ext cx="91440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DataSet coinData = new DataSet(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coinData.add(new Coin(0.25, "quarter")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coinData.add(new Coin(0.1, "dime")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coinData.add(new Coin(0.05, ”nickel"))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easurable max = coinData.getMaximum(); // Get the largest c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wit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It’s not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ring name = max.getName(); // 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a cast to convert from an interface type to a class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’s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 compiler doesn’t. Apply a ca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in maxCoin = (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Coin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) max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ring name = maxCoin.getName();</a:t>
            </a:r>
            <a:r>
              <a:rPr b="0" lang="en-US" sz="18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3"/>
          <p:cNvSpPr/>
          <p:nvPr/>
        </p:nvSpPr>
        <p:spPr>
          <a:xfrm>
            <a:off x="0" y="914040"/>
            <a:ext cx="914400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wrong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n’t a coin, the program throws an exception and term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with casting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asting number types you agree to the informa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asting object types you agree to that risk of causing an ex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3"/>
          <p:cNvSpPr/>
          <p:nvPr/>
        </p:nvSpPr>
        <p:spPr>
          <a:xfrm>
            <a:off x="0" y="9154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use a cas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(BankAccount)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ly 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ly refers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3"/>
          <p:cNvSpPr/>
          <p:nvPr/>
        </p:nvSpPr>
        <p:spPr>
          <a:xfrm>
            <a:off x="0" y="959040"/>
            <a:ext cx="914400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, can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ence be converted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ference can be converted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, but if you attempt to cast that reference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 exception occur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ectangle 3"/>
          <p:cNvSpPr/>
          <p:nvPr/>
        </p:nvSpPr>
        <p:spPr>
          <a:xfrm>
            <a:off x="0" y="957960"/>
            <a:ext cx="914400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face variable holds a reference to object of a class that implements the interf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 meas;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 = new BankAccount(10000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 = new Coin(0.1, "dim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object to which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doesn’t have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 type of the object is some class that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l any of the interface metho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ouble m = meas.getMeasure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ethod is call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fa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3" name="Picture 3" descr="interface_reference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3"/>
          <p:cNvSpPr/>
          <p:nvPr/>
        </p:nvSpPr>
        <p:spPr>
          <a:xfrm>
            <a:off x="0" y="9039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face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code more reu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hapter 6, we created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 average and maximum of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want to find the average and maximum of a set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Rectangle 3"/>
          <p:cNvSpPr/>
          <p:nvPr/>
        </p:nvSpPr>
        <p:spPr>
          <a:xfrm>
            <a:off x="0" y="926280"/>
            <a:ext cx="9144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virtual machine calls an instance method, it locates the method of the implicit parameter's class —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method loo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, the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.getMeasure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.get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, then metho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.get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orphism (many shapes) denotes the ability to treat objects with differences in behavior in a uniform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imation 9.1: Polymorph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7" name="ShockwaveFlash2"/>
          <p:cNvGraphicFramePr/>
          <p:nvPr/>
        </p:nvGraphicFramePr>
        <p:xfrm>
          <a:off x="0" y="83808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8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48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Rectangle 3"/>
          <p:cNvSpPr/>
          <p:nvPr/>
        </p:nvSpPr>
        <p:spPr>
          <a:xfrm>
            <a:off x="0" y="908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ssible to construct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abl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n interface. Interfaces have no fields and no metho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3"/>
          <p:cNvSpPr/>
          <p:nvPr/>
        </p:nvSpPr>
        <p:spPr>
          <a:xfrm>
            <a:off x="0" y="935640"/>
            <a:ext cx="91440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 you nevertheless declare a variable whose type i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at variable never refers to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ject. It refers to an object of some cl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lass that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Rectangle 3"/>
          <p:cNvSpPr/>
          <p:nvPr/>
        </p:nvSpPr>
        <p:spPr>
          <a:xfrm>
            <a:off x="0" y="1005840"/>
            <a:ext cx="9144000" cy="42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code fragment print? Why is this an example of polymorph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ataSet data = new DataS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ata.add(new BankAccount(100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ata.add(new Coin(0.1, "dime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System.out.println(data.getAverag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code fragment prints 500.05. Each call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sults in a cal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.getMeasur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In the first call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In the second call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C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A differen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is called in each case. The first call returns the account balance, the second one the coin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Rectangle 3"/>
          <p:cNvSpPr/>
          <p:nvPr/>
        </p:nvSpPr>
        <p:spPr>
          <a:xfrm>
            <a:off x="0" y="886320"/>
            <a:ext cx="9144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abl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add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</a:t>
            </a:r>
            <a:r>
              <a:rPr b="0" i="1" lang="en-US" sz="20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 only to classes under your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measure an object in only on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cannot analyze a set of savings accounts both by bank balance and by interest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b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chanism for specifying code that is executed at a lat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viou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, responsibility of measuring lies with the added objects themsel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3"/>
          <p:cNvSpPr/>
          <p:nvPr/>
        </p:nvSpPr>
        <p:spPr>
          <a:xfrm>
            <a:off x="0" y="891720"/>
            <a:ext cx="914400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Hand the object to be measured to a method of an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interface Measurer </a:t>
            </a:r>
            <a:br>
              <a:rPr sz="2000"/>
            </a:br>
            <a:r>
              <a:rPr b="0" lang="en-US" sz="1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 </a:t>
            </a:r>
            <a:br>
              <a:rPr sz="2000"/>
            </a:br>
            <a:r>
              <a:rPr b="0" lang="en-US" sz="1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double measure(Object anObject); </a:t>
            </a:r>
            <a:br>
              <a:rPr sz="2000"/>
            </a:br>
            <a:r>
              <a:rPr b="0" lang="en-US" sz="1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“lowest common denominator” of all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Rectangle 3"/>
          <p:cNvSpPr/>
          <p:nvPr/>
        </p:nvSpPr>
        <p:spPr>
          <a:xfrm>
            <a:off x="0" y="937800"/>
            <a:ext cx="914400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de that makes the call to the callback receives an object of class that implements this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DataSet(Measurer aMeasur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aximum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er = aMeasurer; // Measurer instance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30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r instance variable carries out the measu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void add(Object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um = sum + </a:t>
            </a:r>
            <a:r>
              <a:rPr b="0" lang="en-US" sz="16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measurer.measure(x)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if (count == 0 || </a:t>
            </a:r>
            <a:r>
              <a:rPr b="0" lang="en-US" sz="16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measurer.measure(maximum) &lt; measurer.measure(x)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aximum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Rectangle 3"/>
          <p:cNvSpPr/>
          <p:nvPr/>
        </p:nvSpPr>
        <p:spPr>
          <a:xfrm>
            <a:off x="0" y="890640"/>
            <a:ext cx="9144000" cy="56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callback is obtained by implementing the Measurer interf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RectangleMeasurer implements Measure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public double measure(Object anObjec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ctangle aRectangle = (Rectangle) anObject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double area = aRectangle.getWidth() * 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aRectangle.getHeight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return area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st from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Rectangle aRectangle = (Rectangle) anObjec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3"/>
          <p:cNvSpPr/>
          <p:nvPr/>
        </p:nvSpPr>
        <p:spPr>
          <a:xfrm>
            <a:off x="0" y="935640"/>
            <a:ext cx="914400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measurer to data set constru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Measurer m = new RectangleMeasurer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DataSet data = new DataSet(m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data.add(new Rectangle(5, 10, 20, 30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data.add(new Rectangle(10, 20, 30, 4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.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Call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Rectangle 3"/>
          <p:cNvSpPr/>
          <p:nvPr/>
        </p:nvSpPr>
        <p:spPr>
          <a:xfrm>
            <a:off x="0" y="8892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ublic class DataSet // Modified for BankAccount object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rivate double s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private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private int count; 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...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public void add(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x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sum = sum +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Balanc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if (count == 0 || maximum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Balance()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&lt;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Balanc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aximum = x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count++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}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public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getMaximum(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return 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Rectangle 3"/>
          <p:cNvSpPr/>
          <p:nvPr/>
        </p:nvSpPr>
        <p:spPr>
          <a:xfrm>
            <a:off x="0" y="928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decoupled from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 Box 5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M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agra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f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7069"/>
                </a:solidFill>
                <a:latin typeface="Courier New"/>
              </a:rPr>
              <a:t>Measurer</a:t>
            </a:r>
            <a:r>
              <a:rPr b="1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fac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7" name="Picture 6" descr="uml2.png"/>
          <p:cNvPicPr/>
          <p:nvPr/>
        </p:nvPicPr>
        <p:blipFill>
          <a:blip r:embed="rId1"/>
          <a:stretch/>
        </p:blipFill>
        <p:spPr>
          <a:xfrm>
            <a:off x="304920" y="1905120"/>
            <a:ext cx="83818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Rectangle 4"/>
          <p:cNvSpPr/>
          <p:nvPr/>
        </p:nvSpPr>
        <p:spPr>
          <a:xfrm>
            <a:off x="0" y="93672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Describes any class whose objects can measure other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the measure of an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nObject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object to be 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(Object anObj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Measur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5"/>
          <p:cNvSpPr/>
          <p:nvPr/>
        </p:nvSpPr>
        <p:spPr>
          <a:xfrm>
            <a:off x="0" y="90504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Rectang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Objects of this class measure rectangles by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Measurer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(Object an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 aRectangle = (Rectangle) an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 = aRectangle.getWidth() * aRectangle.getHeigh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RectangleMeasur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4"/>
          <p:cNvSpPr/>
          <p:nvPr/>
        </p:nvSpPr>
        <p:spPr>
          <a:xfrm>
            <a:off x="0" y="930240"/>
            <a:ext cx="9144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mputes the average of a set of data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maxim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r measur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Constructs an empty data set with a given measu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aMeasurer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measurer that is used to measure data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(Measurer aMeasur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asurer = aMeasur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DataSet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5"/>
          <p:cNvSpPr/>
          <p:nvPr/>
        </p:nvSpPr>
        <p:spPr>
          <a:xfrm>
            <a:off x="0" y="914400"/>
            <a:ext cx="914400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23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24  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dds a data value to the data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25   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@param x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a data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26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(Object 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sum + measurer.measure(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ount =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measurer.measure(maximum) &lt; measurer.measure(x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 =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3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35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36  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Gets the average of the added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37   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verage or 0 if no data has been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38     </a:t>
            </a:r>
            <a:r>
              <a:rPr b="0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vera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ount =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/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Times New Roman"/>
              </a:rPr>
              <a:t>4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DataSe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4"/>
          <p:cNvSpPr/>
          <p:nvPr/>
        </p:nvSpPr>
        <p:spPr>
          <a:xfrm>
            <a:off x="0" y="91440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Gets the largest of the added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return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maximum or 0 if no data has been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Maximum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DataSe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Rectangle 4"/>
          <p:cNvSpPr/>
          <p:nvPr/>
        </p:nvSpPr>
        <p:spPr>
          <a:xfrm>
            <a:off x="0" y="88596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Rectang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use of a Measu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Teste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asurer m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Measur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et data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(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Average area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ta.getAverag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625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DataSetTester2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4"/>
          <p:cNvSpPr/>
          <p:nvPr/>
        </p:nvSpPr>
        <p:spPr>
          <a:xfrm>
            <a:off x="0" y="9144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 max = (Rectangle) data.getMaximu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Maximum area rectangle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a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java.awt.Rectangle[x=10,y=20,width=30,height=40]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2/DataSetTester2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3"/>
          <p:cNvSpPr/>
          <p:nvPr/>
        </p:nvSpPr>
        <p:spPr>
          <a:xfrm>
            <a:off x="0" y="25207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Average area: 625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Expected: 625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Maximum area rectangle:java.awt.Rectangle[x=10,y=20,width=30,height=40] </a:t>
            </a:r>
            <a:br>
              <a:rPr sz="1600"/>
            </a:br>
            <a:r>
              <a:rPr b="0" lang="en-US" sz="1600" spc="-1" strike="noStrike">
                <a:solidFill>
                  <a:srgbClr val="6e7069"/>
                </a:solidFill>
                <a:latin typeface="Courier New"/>
              </a:rPr>
              <a:t>Expected: java.awt.Rectangle[x=10,y=20,width=30,height=4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want to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of Section 9.1 to find the longes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of inputs. Why can’t this 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 doesn’t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us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of this section to find the longes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of inpu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plement a 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StringMeasu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at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3"/>
          <p:cNvSpPr/>
          <p:nvPr/>
        </p:nvSpPr>
        <p:spPr>
          <a:xfrm>
            <a:off x="0" y="948240"/>
            <a:ext cx="876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uppose we wanted to find the coin with the highest value among a set of coins. We would need to modify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gain: 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ublic class DataSet // Modified for Coin objects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rivate double s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rivate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Coin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rivate int count;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...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public void add(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Coin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x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sum = sum +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Valu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if (count == 0 || maximum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Valu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&lt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  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Valu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) maximum = x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count++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3"/>
          <p:cNvSpPr/>
          <p:nvPr/>
        </p:nvSpPr>
        <p:spPr>
          <a:xfrm>
            <a:off x="0" y="9198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have one more parameter tha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measurer measures an object, where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asures “itself”, that is, the implicit parame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ec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9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3"/>
          <p:cNvSpPr/>
          <p:nvPr/>
        </p:nvSpPr>
        <p:spPr>
          <a:xfrm>
            <a:off x="0" y="904320"/>
            <a:ext cx="87631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v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can be declared inside a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class DataSetTeste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class RectangleMeasurer implements Meas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er m = new RectangleMeasur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ataSet data = new DataSet(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ner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Rectangle 3"/>
          <p:cNvSpPr/>
          <p:nvPr/>
        </p:nvSpPr>
        <p:spPr>
          <a:xfrm>
            <a:off x="0" y="916560"/>
            <a:ext cx="876312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ner class is declared inside an enclosing class, but outside its methods, it is available to all methods of enclosing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DataSetTeste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class RectangleMeasurer implements Meas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Measurer m = new RectangleMeasur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ataSet data = new DataSet(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ner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3"/>
          <p:cNvSpPr/>
          <p:nvPr/>
        </p:nvSpPr>
        <p:spPr>
          <a:xfrm>
            <a:off x="0" y="990720"/>
            <a:ext cx="8763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turns an inner class into a regular class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ataSetTester$1$RectangleMeasurer.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ner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Rectangle 4"/>
          <p:cNvSpPr/>
          <p:nvPr/>
        </p:nvSpPr>
        <p:spPr>
          <a:xfrm>
            <a:off x="76320" y="932040"/>
            <a:ext cx="90676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Rectang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the use of an inner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Teste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Measurer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sure(Object an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ctangle aRectangle = (Rectangle) an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= aRectangle.getWidth() * aRectangle.getHeigh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asurer m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Measur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et data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Set(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3/DataSetTester3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Rectangle 4"/>
          <p:cNvSpPr/>
          <p:nvPr/>
        </p:nvSpPr>
        <p:spPr>
          <a:xfrm>
            <a:off x="0" y="9334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.add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Average area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ta.getAverag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625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 max = (Rectangle) data.getMaximu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Maximum area rectangle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a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Expected: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java.awt.Rectangle[x=10,y=20,width=30,height=40]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measure3/DataSetTester3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you use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instead of a regula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es are convenient for insignificant classes. Also, their methods can access variables and fields from the surrounding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lass files are produced when you compil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Tester3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u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for the outer class, one for the inner class, and two fo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ata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Measu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perat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8" name="Picture 5" descr="linux.png"/>
          <p:cNvPicPr/>
          <p:nvPr/>
        </p:nvPicPr>
        <p:blipFill>
          <a:blip r:embed="rId1"/>
          <a:stretch/>
        </p:blipFill>
        <p:spPr>
          <a:xfrm>
            <a:off x="228600" y="914400"/>
            <a:ext cx="75438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Footer Placeholder 3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0" y="884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test a class before the entire program has been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ck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same services as another object, but in a simplified m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ade book application,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nages quiz scores using clas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addScore(int studentId, double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double getAverageScore(int studen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save(String filena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test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having a fully functional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c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3"/>
          <p:cNvSpPr/>
          <p:nvPr/>
        </p:nvSpPr>
        <p:spPr>
          <a:xfrm>
            <a:off x="0" y="21024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5"/>
          <p:cNvSpPr/>
          <p:nvPr/>
        </p:nvSpPr>
        <p:spPr>
          <a:xfrm>
            <a:off x="0" y="884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public 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Coin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getMaximum()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   return maximum; 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}</a:t>
            </a:r>
            <a:br>
              <a:rPr sz="1800"/>
            </a:b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Footer Placeholder 3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an interface type with the same methods tha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prov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vention: use the letter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a prefix for the interface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interface IGrade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void addScore(int studentId, double sco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getAverageScore(int student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void save(String 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shou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this interface, never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which implements this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c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Footer Placeholder 3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while, provide a simplified mock implementation, restricted to the case of one student and without saving 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class MockGradeBook implements IGrad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private ArrayList&lt;Double&gt; sco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public void addScore(int studentId, double s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// Ignore stude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scores.add(scor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getAverageScore(int student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double tota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for (double x : scores) { total = total + x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return total / scores.siz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void save(String fil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// Do n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706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c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Footer Placeholder 3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onstruct an instance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MockGradeB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se it immediately to tes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ready to test the actual class, simply use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rase the mock class — it will still come in handy for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oc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Rectangle 3"/>
          <p:cNvSpPr/>
          <p:nvPr/>
        </p:nvSpPr>
        <p:spPr>
          <a:xfrm>
            <a:off x="0" y="93024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necessary that the real class and the mock class implement the same interface typ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ou want to implemen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n terms of that interface so that it doesn’t have to change when you switch between the mock class and the actual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3"/>
          <p:cNvSpPr/>
          <p:nvPr/>
        </p:nvSpPr>
        <p:spPr>
          <a:xfrm>
            <a:off x="0" y="92916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technique of mock objects particularly effective whe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are developed by two programm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cause the developer of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ing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oesn’t have to wait for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Grad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 to be compl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3"/>
          <p:cNvSpPr/>
          <p:nvPr/>
        </p:nvSpPr>
        <p:spPr>
          <a:xfrm>
            <a:off x="47520" y="893520"/>
            <a:ext cx="9096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key presses, mouse moves, button clicks, and so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grams don’t want to be flooded by boring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can indicate that it only cares about certain specif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, Event Sources, and Event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Rectangle 3"/>
          <p:cNvSpPr/>
          <p:nvPr/>
        </p:nvSpPr>
        <p:spPr>
          <a:xfrm>
            <a:off x="47520" y="872280"/>
            <a:ext cx="90964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listen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fied when event happ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ngs to a class that is provided by the application program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s methods describe the actions to be taken when an event oc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ogram indicates which events it needs to receive by installing event listener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sour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face component that generates a particular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an event listener object to the appropriate ev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n event occurs, the event source notifies all event liste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4"/>
          <p:cNvSpPr/>
          <p:nvPr/>
        </p:nvSpPr>
        <p:spPr>
          <a:xfrm>
            <a:off x="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, Event Sources, and Event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3"/>
          <p:cNvSpPr/>
          <p:nvPr/>
        </p:nvSpPr>
        <p:spPr>
          <a:xfrm>
            <a:off x="0" y="916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program that prints a message whenever a button is clic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4"/>
          <p:cNvSpPr/>
          <p:nvPr/>
        </p:nvSpPr>
        <p:spPr>
          <a:xfrm>
            <a:off x="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, Event Sources, and Event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5"/>
          <p:cNvSpPr/>
          <p:nvPr/>
        </p:nvSpPr>
        <p:spPr>
          <a:xfrm>
            <a:off x="7086600" y="5791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5" name="Picture 7" descr="action_listener.png"/>
          <p:cNvPicPr/>
          <p:nvPr/>
        </p:nvPicPr>
        <p:blipFill>
          <a:blip r:embed="rId1"/>
          <a:stretch/>
        </p:blipFill>
        <p:spPr>
          <a:xfrm>
            <a:off x="304920" y="1981080"/>
            <a:ext cx="6858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3"/>
          <p:cNvSpPr/>
          <p:nvPr/>
        </p:nvSpPr>
        <p:spPr>
          <a:xfrm>
            <a:off x="0" y="834480"/>
            <a:ext cx="91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for buttons; attach an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but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interface ActionListener </a:t>
            </a:r>
            <a:br>
              <a:rPr sz="2000"/>
            </a:b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void actionPerformed(ActionEvent event); </a:t>
            </a:r>
            <a:br>
              <a:rPr sz="2000"/>
            </a:b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6e706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upply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instructions to be executed when button is clic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contains details about the event, such a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at which it occu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4"/>
          <p:cNvSpPr/>
          <p:nvPr/>
        </p:nvSpPr>
        <p:spPr>
          <a:xfrm>
            <a:off x="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, Event Sources, and Event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5"/>
          <p:cNvSpPr/>
          <p:nvPr/>
        </p:nvSpPr>
        <p:spPr>
          <a:xfrm>
            <a:off x="7086600" y="5791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3"/>
          <p:cNvSpPr/>
          <p:nvPr/>
        </p:nvSpPr>
        <p:spPr>
          <a:xfrm>
            <a:off x="0" y="9190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 object of the listener and add it to the butt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ctionListener listener = new ClickListener(); 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utton.addActionListener(listen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4"/>
          <p:cNvSpPr/>
          <p:nvPr/>
        </p:nvSpPr>
        <p:spPr>
          <a:xfrm>
            <a:off x="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ts, Event Sources, and Event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3"/>
          <p:cNvSpPr/>
          <p:nvPr/>
        </p:nvSpPr>
        <p:spPr>
          <a:xfrm>
            <a:off x="0" y="992160"/>
            <a:ext cx="91440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for the data analysis service is the same in all cases; details of measurement di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could agree on a metho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getMeasure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obtains the measure to be used in the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plement a single reusabl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Data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whos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looks like th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sum = sum +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if (count == 0 || maximum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&lt; x.</a:t>
            </a:r>
            <a:r>
              <a:rPr b="0" lang="en-US" sz="1800" spc="-1" strike="noStrike">
                <a:solidFill>
                  <a:srgbClr val="0057c1"/>
                </a:solidFill>
                <a:latin typeface="Courier New"/>
              </a:rPr>
              <a:t>getMeasure()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maximum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6e7069"/>
                </a:solidFill>
                <a:latin typeface="Courier New"/>
              </a:rPr>
              <a:t>count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6"/>
          <p:cNvSpPr/>
          <p:nvPr/>
        </p:nvSpPr>
        <p:spPr>
          <a:xfrm>
            <a:off x="0" y="84456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Ev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n action listener that prints a mes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ckListener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I was clicked.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1/ClickListen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6"/>
          <p:cNvSpPr/>
          <p:nvPr/>
        </p:nvSpPr>
        <p:spPr>
          <a:xfrm>
            <a:off x="0" y="9144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Butt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how to install an action liste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utton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button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Click me!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(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Listener listen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ckListen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.addActionListener(liste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Text Box 7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1/ButtonView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4"/>
          <p:cNvSpPr/>
          <p:nvPr/>
        </p:nvSpPr>
        <p:spPr>
          <a:xfrm>
            <a:off x="0" y="91116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FRAME_WIDTH, FRAME_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1/ButtonView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3"/>
          <p:cNvSpPr/>
          <p:nvPr/>
        </p:nvSpPr>
        <p:spPr>
          <a:xfrm>
            <a:off x="-3240" y="908280"/>
            <a:ext cx="9147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bjects are the event source and the event listener 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uttonView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bject is the event source.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object is the event liste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3"/>
          <p:cNvSpPr/>
          <p:nvPr/>
        </p:nvSpPr>
        <p:spPr>
          <a:xfrm>
            <a:off x="0" y="8492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egal to assign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Click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to a variable of typ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Click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ass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3"/>
          <p:cNvSpPr/>
          <p:nvPr/>
        </p:nvSpPr>
        <p:spPr>
          <a:xfrm>
            <a:off x="0" y="884880"/>
            <a:ext cx="9144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simple listener classes as inner classes like th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JButton button = new JButton("..."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This inner class is declared in the same method as the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butt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lass MyListener implements ActionListene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...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ctionListener listener = new MyListener(); button.addActionListener(listene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laces the trivial listener class exactly where it is needed, without cluttering up the remainder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ner Classes for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3"/>
          <p:cNvSpPr/>
          <p:nvPr/>
        </p:nvSpPr>
        <p:spPr>
          <a:xfrm>
            <a:off x="0" y="912960"/>
            <a:ext cx="9144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an inner class can access the variables from the enclosing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variables that are accessed by an inner class method must be declared as f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interest to a bank account whenever a button is clic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ner Classes for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3"/>
          <p:cNvSpPr/>
          <p:nvPr/>
        </p:nvSpPr>
        <p:spPr>
          <a:xfrm>
            <a:off x="0" y="87084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JButton button = new JButton("Add Interes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final BankAccount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account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new BankAccount(INITIAL_BALAN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This inner class is declared in the same metho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the account and button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lass AddInterestListener implements Action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6e706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public void actionPerformed(ActionEvent e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The listener method accesses the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// variable from the surrounding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double interest =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getBalan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* INTEREST_RATE /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.deposit(intere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ActionListener listener = new AddInterestListen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button.addActionListener(listen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ner Classes for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5"/>
          <p:cNvSpPr/>
          <p:nvPr/>
        </p:nvSpPr>
        <p:spPr>
          <a:xfrm>
            <a:off x="0" y="91440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Ev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Butt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emonstrates how an action listener can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a variable from a surrounding bl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View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_RAT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_BALANC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2/InvestmentViewer1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5"/>
          <p:cNvSpPr/>
          <p:nvPr/>
        </p:nvSpPr>
        <p:spPr>
          <a:xfrm>
            <a:off x="0" y="870120"/>
            <a:ext cx="914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button to trigger the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button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Add Interest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(butt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pplication adds interest to this bank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account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INITIAL_BALA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listener method accesses the account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from the surrounding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 = account.getBalance() * INTEREST_RATE /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ount.deposit(inter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ccount.getBalanc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Text Box 6"/>
          <p:cNvSpPr/>
          <p:nvPr/>
        </p:nvSpPr>
        <p:spPr>
          <a:xfrm>
            <a:off x="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2/InvestmentViewer1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Rectangle 3"/>
          <p:cNvSpPr/>
          <p:nvPr/>
        </p:nvSpPr>
        <p:spPr>
          <a:xfrm>
            <a:off x="0" y="938160"/>
            <a:ext cx="914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type of the variabl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buClr>
                <a:srgbClr val="6e706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hould refer to any class that has a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getMeasure</a:t>
            </a:r>
            <a:r>
              <a:rPr b="0" i="1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va,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specify required oper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ublic interface 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double getMeasur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declaration lists all methods that the interface type requ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Interfaces for Algorithm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Text Box 4"/>
          <p:cNvSpPr/>
          <p:nvPr/>
        </p:nvSpPr>
        <p:spPr>
          <a:xfrm>
            <a:off x="152280" y="402264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Ru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lance: 110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lance: 121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lance: 133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alance: 146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6"/>
          <p:cNvSpPr/>
          <p:nvPr/>
        </p:nvSpPr>
        <p:spPr>
          <a:xfrm>
            <a:off x="0" y="87948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Listener listen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.addActionListener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FRAME_WIDTH, FRAME_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 Box 7"/>
          <p:cNvSpPr/>
          <p:nvPr/>
        </p:nvSpPr>
        <p:spPr>
          <a:xfrm>
            <a:off x="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2/InvestmentViewer1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Rectangle 3"/>
          <p:cNvSpPr/>
          <p:nvPr/>
        </p:nvSpPr>
        <p:spPr>
          <a:xfrm>
            <a:off x="0" y="73476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would an inner class method want to access a variable from a surrounding scop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rect access is simpler than the altern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ssing the variable as a parameter to a constructor or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would an inner class method want to access a variable from a surrounding If an inner class accesses a local variable from a surrounding scope, what special rule appl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ocal variable must be declared 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Text Box 5"/>
          <p:cNvSpPr/>
          <p:nvPr/>
        </p:nvSpPr>
        <p:spPr>
          <a:xfrm>
            <a:off x="0" y="9302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vestment viewer program; whenever button is clicked, interest is added, and new balance is display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uilding Applications with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5" name="Picture 7" descr="addinterest.png"/>
          <p:cNvPicPr/>
          <p:nvPr/>
        </p:nvPicPr>
        <p:blipFill>
          <a:blip r:embed="rId1"/>
          <a:stretch/>
        </p:blipFill>
        <p:spPr>
          <a:xfrm>
            <a:off x="304920" y="1905120"/>
            <a:ext cx="86104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 Box 4"/>
          <p:cNvSpPr/>
          <p:nvPr/>
        </p:nvSpPr>
        <p:spPr>
          <a:xfrm>
            <a:off x="0" y="933480"/>
            <a:ext cx="91440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 object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JButton button = new JButton(</a:t>
            </a:r>
            <a:r>
              <a:rPr b="0" lang="en-US" sz="2000" spc="-1" strike="noStrike">
                <a:solidFill>
                  <a:srgbClr val="0057c1"/>
                </a:solidFill>
                <a:latin typeface="Courier New"/>
                <a:ea typeface="ＭＳ Ｐゴシック"/>
              </a:rPr>
              <a:t>"Add Interest"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user interface component that displays a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JLabel label = new JLabel("balance: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+ account.getBalance(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er to group multiple user interface components togeth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JPanel panel = new JPanel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anel.add(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panel.add(labe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frame.add(pane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uilding Applications with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3"/>
          <p:cNvSpPr/>
          <p:nvPr/>
        </p:nvSpPr>
        <p:spPr>
          <a:xfrm>
            <a:off x="0" y="92916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adds interest and displays the new bala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lass AddInterestListener implements ActionListener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public void actionPerformed(ActionEvent even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double interest = account.getBalance() *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   INTEREST_RATE / 100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account.deposit(interest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 label.setText("balance=" + account.getBalance()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ddInterestListen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so it can have acces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rrounding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 (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uilding Applications with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Text Box 3"/>
          <p:cNvSpPr/>
          <p:nvPr/>
        </p:nvSpPr>
        <p:spPr>
          <a:xfrm>
            <a:off x="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4"/>
          <p:cNvSpPr/>
          <p:nvPr/>
        </p:nvSpPr>
        <p:spPr>
          <a:xfrm>
            <a:off x="0" y="93024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Ev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Butt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TextFie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displays the growth of an invest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stmentView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4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_RAT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_BALANCE =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3/InvestmentViewer2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Rectangle 4"/>
          <p:cNvSpPr/>
          <p:nvPr/>
        </p:nvSpPr>
        <p:spPr>
          <a:xfrm>
            <a:off x="0" y="914400"/>
            <a:ext cx="9144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button to trigger the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button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Add Interest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pplication adds interest to this bank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account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INITIAL_BALA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label for displaying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label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ccount.getBalanc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4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panel that holds the user interface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butt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label)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3/InvestmentViewer2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Rectangle 4"/>
          <p:cNvSpPr/>
          <p:nvPr/>
        </p:nvSpPr>
        <p:spPr>
          <a:xfrm>
            <a:off x="0" y="914400"/>
            <a:ext cx="914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 = account.getBalance() * INTEREST_RATE / 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ount.deposit(inter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bel.setText(</a:t>
            </a:r>
            <a:r>
              <a:rPr b="0" lang="en-US" sz="1400" spc="-1" strike="noStrike">
                <a:solidFill>
                  <a:srgbClr val="32e598"/>
                </a:solidFill>
                <a:latin typeface="Courier New"/>
                <a:ea typeface="Courier New"/>
              </a:rPr>
              <a:t>"balance: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account.getBalanc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7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49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Listener listener = </a:t>
            </a:r>
            <a:r>
              <a:rPr b="0" lang="en-US" sz="14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terest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0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.addActionListener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2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FRAME_WIDTH, FRAME_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3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4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</a:t>
            </a:r>
            <a:r>
              <a:rPr b="0" lang="en-US" sz="14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73ff"/>
                </a:solidFill>
                <a:latin typeface="Courier New"/>
                <a:ea typeface="Courier New"/>
              </a:rPr>
              <a:t>56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Text Box 5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button3/InvestmentViewer2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3"/>
          <p:cNvSpPr/>
          <p:nvPr/>
        </p:nvSpPr>
        <p:spPr>
          <a:xfrm>
            <a:off x="0" y="9154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plac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"balance: ..."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to the left of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"Add Interest"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rst 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the panel, then add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Syntax</a:t>
            </a:r>
            <a:r>
              <a:rPr b="1" lang="en-US" sz="2400" spc="-1" strike="noStrike">
                <a:solidFill>
                  <a:srgbClr val="0033cc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4b95"/>
                </a:solidFill>
                <a:latin typeface="Lucida Sans"/>
              </a:rPr>
              <a:t>9.1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clar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Picture 5" descr="syntax_interface.png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3"/>
          <p:cNvSpPr/>
          <p:nvPr/>
        </p:nvSpPr>
        <p:spPr>
          <a:xfrm>
            <a:off x="0" y="92556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it not necessary to declare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as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thod does not access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Rectangle 3"/>
          <p:cNvSpPr/>
          <p:nvPr/>
        </p:nvSpPr>
        <p:spPr>
          <a:xfrm>
            <a:off x="0" y="864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javax.swing.Tim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equally spaced timer events, sending events to installed action liste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whenever you want to have an object updated in regular interv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cessing Time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Rectangle 3"/>
          <p:cNvSpPr/>
          <p:nvPr/>
        </p:nvSpPr>
        <p:spPr>
          <a:xfrm>
            <a:off x="0" y="913320"/>
            <a:ext cx="9144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a class that implement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6e7069"/>
                </a:solidFill>
                <a:latin typeface="Courier New"/>
              </a:rPr>
              <a:t>MyListener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implements ActionListener 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void actionPerformed(ActionEvent event)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{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rker Felt"/>
              </a:rPr>
              <a:t>Listener action (executed at each timer event)</a:t>
            </a:r>
            <a:r>
              <a:rPr b="0" lang="en-US" sz="2000" spc="-1" strike="noStrike">
                <a:solidFill>
                  <a:srgbClr val="6e7069"/>
                </a:solidFill>
                <a:latin typeface="Marker Felt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   }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istener to timer and start ti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MyListener listener = new MyListener(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Timer t = new Timer(interval, listener); </a:t>
            </a:r>
            <a:br>
              <a:rPr sz="2000"/>
            </a:br>
            <a:r>
              <a:rPr b="0" lang="en-US" sz="2000" spc="-1" strike="noStrike">
                <a:solidFill>
                  <a:srgbClr val="6e7069"/>
                </a:solidFill>
                <a:latin typeface="Courier New"/>
              </a:rPr>
              <a:t>t.star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ocessing Time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5"/>
          <p:cNvSpPr/>
          <p:nvPr/>
        </p:nvSpPr>
        <p:spPr>
          <a:xfrm>
            <a:off x="0" y="930240"/>
            <a:ext cx="91440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lays a rectangle that can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repai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causes a component to repaint itself. Call this method whenever you modify the shapes that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Courier New"/>
              </a:rPr>
              <a:t>paintCompone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dr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raphics2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Rectang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Compon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component displays a rectangle that can be mo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X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Y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WIDTH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_HEIGH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timer/RectangleComponent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Rectangle 5"/>
          <p:cNvSpPr/>
          <p:nvPr/>
        </p:nvSpPr>
        <p:spPr>
          <a:xfrm>
            <a:off x="0" y="914400"/>
            <a:ext cx="914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bo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rectangle that the paintComponent method dra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BOX_X, BOX_Y, BOX_WIDTH, BOX_HEIGHT);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Graphics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 = (Graphics2D) 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.draw(bo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 Box 6"/>
          <p:cNvSpPr/>
          <p:nvPr/>
        </p:nvSpPr>
        <p:spPr>
          <a:xfrm>
            <a:off x="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timer/RectangleCompone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Footer Placeholder 3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Java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Rectangle 5"/>
          <p:cNvSpPr/>
          <p:nvPr/>
        </p:nvSpPr>
        <p:spPr>
          <a:xfrm>
            <a:off x="0" y="914400"/>
            <a:ext cx="914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Moves the rectangle by a given amou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x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mount to move in the x-dir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@param y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the amount to move in the y-dir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y(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translate(dx, d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Text Box 6"/>
          <p:cNvSpPr/>
          <p:nvPr/>
        </p:nvSpPr>
        <p:spPr>
          <a:xfrm>
            <a:off x="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timer/RectangleComponent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Rectangle 4"/>
          <p:cNvSpPr/>
          <p:nvPr/>
        </p:nvSpPr>
        <p:spPr>
          <a:xfrm>
            <a:off x="0" y="9144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Ev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ActionListe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Fr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i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This program moves the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9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M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WIDTH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3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_HEIGHT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4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4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frame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FRAME_WIDTH, FRAME_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1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Title(</a:t>
            </a:r>
            <a:r>
              <a:rPr b="0" lang="en-US" sz="1600" spc="-1" strike="noStrike">
                <a:solidFill>
                  <a:srgbClr val="32e598"/>
                </a:solidFill>
                <a:latin typeface="Courier New"/>
                <a:ea typeface="Courier New"/>
              </a:rPr>
              <a:t>"An animated rectangle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DefaultCloseOperation(JFrame.EXIT_ON_CLO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5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timer/RectangleMove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5"/>
          <p:cNvSpPr/>
          <p:nvPr/>
        </p:nvSpPr>
        <p:spPr>
          <a:xfrm>
            <a:off x="73152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Footer Placeholder 4"/>
          <p:cNvSpPr/>
          <p:nvPr/>
        </p:nvSpPr>
        <p:spPr>
          <a:xfrm>
            <a:off x="4800600" y="63054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g Jav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y Horst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9 by John Wiley &amp; Sons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Rectangle 5"/>
          <p:cNvSpPr/>
          <p:nvPr/>
        </p:nvSpPr>
        <p:spPr>
          <a:xfrm>
            <a:off x="0" y="91440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 component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Compone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(compon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6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Listener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2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mponent.moveBy(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2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3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5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Listener listener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Listen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6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7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AY = </a:t>
            </a:r>
            <a:r>
              <a:rPr b="0" lang="en-US" sz="1600" spc="-1" strike="noStrike">
                <a:solidFill>
                  <a:srgbClr val="66ff19"/>
                </a:solidFill>
                <a:latin typeface="Courier New"/>
                <a:ea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en-US" sz="1600" spc="-1" strike="noStrike">
                <a:solidFill>
                  <a:srgbClr val="0073ff"/>
                </a:solidFill>
                <a:latin typeface="Times New Roman"/>
                <a:ea typeface="Times New Roman"/>
              </a:rPr>
              <a:t> Milliseconds between timer t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8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 t = </a:t>
            </a:r>
            <a:r>
              <a:rPr b="0" lang="en-US" sz="1600" spc="-1" strike="noStrike">
                <a:solidFill>
                  <a:srgbClr val="cc0066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DELAY, liste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39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.start(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0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3ff"/>
                </a:solidFill>
                <a:latin typeface="Courier New"/>
                <a:ea typeface="Courier New"/>
              </a:rPr>
              <a:t>41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Text Box 6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h09/timer/RectangleMover.ja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Rectangle 3"/>
          <p:cNvSpPr/>
          <p:nvPr/>
        </p:nvSpPr>
        <p:spPr>
          <a:xfrm>
            <a:off x="0" y="91764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a timer requir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timer needs to call some method whenever the time interval expires. It calls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  <a:ea typeface="ＭＳ Ｐゴシック"/>
              </a:rPr>
              <a:t>actionPerformed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of the listener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Rectangle 3"/>
          <p:cNvSpPr/>
          <p:nvPr/>
        </p:nvSpPr>
        <p:spPr>
          <a:xfrm>
            <a:off x="0" y="935640"/>
            <a:ext cx="91440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appen if you omitted the call to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repaint</a:t>
            </a:r>
            <a:r>
              <a:rPr b="0" lang="en-US" sz="2400" spc="-1" strike="noStrike">
                <a:solidFill>
                  <a:srgbClr val="6e706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6e7069"/>
                </a:solidFill>
                <a:latin typeface="Courier New"/>
              </a:rPr>
              <a:t>move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moved rectangles won’t be painted, and the rectangle will appear to be stationary until the frame is repainted for an external reas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4"/>
          <p:cNvSpPr/>
          <p:nvPr/>
        </p:nvSpPr>
        <p:spPr>
          <a:xfrm>
            <a:off x="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elf Check 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46:17Z</dcterms:created>
  <dc:creator>Bill</dc:creator>
  <dc:description/>
  <dc:language>en-US</dc:language>
  <cp:lastModifiedBy>alegaspi</cp:lastModifiedBy>
  <dcterms:modified xsi:type="dcterms:W3CDTF">2010-02-24T21:23:06Z</dcterms:modified>
  <cp:revision>207</cp:revision>
  <dc:subject/>
  <dc:title>Slide 1</dc:title>
</cp:coreProperties>
</file>